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CA0-7019-4478-A049-E53BB163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39F-ECF7-4639-875D-4AC345F8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C58-0194-4708-A03D-27094619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67A-48DD-45E2-95B1-FDC19FD3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793-1E0C-4DF7-B4F1-888536B0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39A-1D5C-42A4-B6D2-ED8864B3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FE0-6034-4520-8EC3-26EA5642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176-7D41-4071-AC92-F230962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7BD-CD8C-4D4D-B914-BFEAB4CF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1DE-4357-4A32-B5FC-225525C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13B-445B-4332-B538-99890D7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5E8-85F5-412F-843F-7D95CC7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1A3708-CA2F-48B8-A3B6-DAC5466A36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2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0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844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7560" y="2786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59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1040" y="3006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5424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3360" y="277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2440" y="299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21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0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29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7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2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06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64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2640" y="2774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38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90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02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910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96120" y="275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88640" y="2768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9432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0640" y="29894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9640" y="2975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288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22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6808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996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848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960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68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0640" y="1962720"/>
            <a:ext cx="30636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한방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1780200"/>
            <a:ext cx="30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1480" y="2997720"/>
            <a:ext cx="4280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77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86960" y="3087360"/>
            <a:ext cx="42804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2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38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9080" y="30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2424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60360" y="312192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244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108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18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070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9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90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44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18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222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16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792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6911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260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10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73520" y="31464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77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531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760" y="3128400"/>
            <a:ext cx="42804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65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6360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40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9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00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1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65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847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384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00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1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853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6560" y="41720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52080" y="4187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84040" y="440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6916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0080" y="4394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124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5840" y="4172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1360" y="4187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4040" y="440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0844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3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0052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43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22860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2920" y="45496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969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43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9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908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7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69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9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9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3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08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6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54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692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624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9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7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7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0320" y="4668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336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3888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71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559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48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66920" y="35719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43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307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624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8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133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242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05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0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8720" y="4637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02200" y="2763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95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040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480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96080" y="29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6896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3213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9560" y="27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52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776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216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29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2632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1660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16284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0692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960" y="29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8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0044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8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0692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0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0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4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044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8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87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512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069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7208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0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004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8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0480" y="4478760"/>
            <a:ext cx="3063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480" y="2950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12880" y="2515320"/>
            <a:ext cx="306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730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76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4640" y="28130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50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702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11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622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76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812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5440" y="259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370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811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622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68520" y="3917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45200" y="3933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66000" y="4154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1120" y="415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62040" y="4140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43200" y="414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68520" y="3470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62120" y="348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66000" y="370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08640" y="37069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62040" y="369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43200" y="369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5280" y="463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69320" y="464832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62760" y="486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47880" y="486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58800" y="485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39960" y="485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92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3800" y="5109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840" y="3650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604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41400" y="436248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81120" y="5057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8444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86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3720" y="529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75000" y="528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58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1120" y="461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74720" y="4629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78600" y="484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75880" y="4849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75000" y="483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55800" y="483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5280" y="4467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70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8292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4844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040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655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7644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576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5800" y="54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77560" y="56642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056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95720" y="5730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876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316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524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6560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31480" y="5730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6308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4820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912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064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66520" y="57308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9812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24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416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7532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2720" y="5715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860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092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053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6600" y="5937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974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71640" y="55688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344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596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0360" y="5049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5063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39040" y="4029120"/>
            <a:ext cx="4280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여일수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 투여량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31240" y="516816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91880" y="5549400"/>
            <a:ext cx="4280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가감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6160" y="3457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95280" y="3473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4360" y="3693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760" y="36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0040" y="3679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96160" y="36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02880" y="2610000"/>
            <a:ext cx="1401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지원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74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903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9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800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642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151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67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9022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168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93480" y="2813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142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994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103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914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168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14280" y="259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662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103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914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896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1447920"/>
            <a:ext cx="635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82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5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80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5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49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952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0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2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2032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0544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752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2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7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2104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1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2464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1680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2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0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1816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406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8036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4624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7784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6296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7388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5504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2476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003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24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2160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03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17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9880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24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7020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140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8116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17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9880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9880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1128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11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3528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088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3348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1788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2880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0996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95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95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4476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036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4296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27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38640" y="3543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19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0672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63720" y="4394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40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1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3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7600" y="46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30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3720" y="39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09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80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5380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57600" y="417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30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03372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8280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5768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8100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65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7668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57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3044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676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8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3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432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05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33720" y="492120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00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5500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5257800"/>
            <a:ext cx="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3396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1100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314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1332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2748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86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396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800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5016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632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2748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86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0360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530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279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5016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356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465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277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0068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7556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9852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8328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9420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7536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360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7032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9484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8052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김진성</cp:lastModifiedBy>
  <cp:lastPrinted>2001-07-04T11:14:57Z</cp:lastPrinted>
  <dcterms:modified xsi:type="dcterms:W3CDTF">2010-02-11T06:33:20Z</dcterms:modified>
  <cp:revision>61</cp:revision>
  <dc:subject/>
  <dc:title>슬라이드 제목 없음</dc:title>
</cp:coreProperties>
</file>