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7177-4DF3-404E-82C7-A31D533F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2561-3C9F-4FBD-AE95-14B58F47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9AB-2C98-4ED4-8AD2-B8C1913D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E2B-1083-446A-BC74-3C5135AE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E48-0CE3-47B8-8DE2-85A1860E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8704-128F-4D46-8789-718DA537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CBF5-3506-437B-8708-F2232ED6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6843-E0F5-4C65-9E6E-6F3B591A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425-B9A0-48A1-AC4A-9296CC7E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0EBA-34A2-4D3E-8434-04BED4E1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EE9-3F7B-43FE-9551-BF4A5DE1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247-3D3D-4884-B66D-D3D23E0A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156744-F900-4208-9B3B-4502317B6C61}" type="slidenum"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59920" y="76212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CL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91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447920"/>
            <a:ext cx="711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59120" y="2746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2762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66320" y="29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172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53000" y="2968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588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85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6864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6152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7548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12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6216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354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348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0194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82760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6716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8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1332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6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41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25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28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22280" y="236232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6766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9220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6636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8968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7480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8608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896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38520" y="26575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15560" y="2673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36000" y="2894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18240" y="290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32400" y="2879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13200" y="287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38520" y="2219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3212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36720" y="2455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07080" y="2455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32400" y="2441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1320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86680" y="16732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48600" y="16891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0972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413920" y="1457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808520" y="310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9960" y="3219480"/>
            <a:ext cx="78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12760" y="1933200"/>
            <a:ext cx="306360" cy="18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자문서참조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11560" y="3240000"/>
            <a:ext cx="67140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신기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60840" y="3230640"/>
            <a:ext cx="1036440" cy="29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분야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진료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40840" y="31845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년월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22680" y="3343320"/>
            <a:ext cx="557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07640" y="3359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44640" y="3589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52920" y="35798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6560" y="3565440"/>
            <a:ext cx="569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9960" y="357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9960" y="358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03880" y="3343320"/>
            <a:ext cx="557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88480" y="3359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25840" y="3589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35798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97400" y="3565440"/>
            <a:ext cx="569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91160" y="357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10240" y="358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581800" y="3209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65520" y="1875960"/>
            <a:ext cx="306360" cy="23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용심사청구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8172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74600" y="27558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889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09240" y="29764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7560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484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5614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8024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600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1656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90720" y="27590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404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9916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044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8332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29440" y="2988360"/>
            <a:ext cx="671400" cy="16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약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현행미사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차등지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건수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64200" y="3251160"/>
            <a:ext cx="127980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등수가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원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 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4080" y="257040"/>
            <a:ext cx="4366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64292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332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712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8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959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0720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800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833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31400" y="202248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24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0636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68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50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144792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CL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5920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5244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566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418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5308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59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4496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07600" y="29750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4244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1316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0524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4496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2416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4316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9912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524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253040" y="145080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00560" y="34034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44960" y="3781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96080" y="3797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43160" y="4017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13160" y="401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003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05240" y="400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6924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9364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5932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434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5179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96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89400" y="32126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91080" y="28702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7184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436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7868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544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6536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386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8512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036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1798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9540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6920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9288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7800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8928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6216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9440" y="3092760"/>
            <a:ext cx="549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대행청구 단체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작성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09560" y="3230640"/>
            <a:ext cx="54972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검사승인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작성자 생년월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64292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cp:keywords/>
  <dc:language>en-US</dc:language>
  <cp:lastModifiedBy>김진성</cp:lastModifiedBy>
  <cp:lastPrinted>2001-07-04T10:58:58Z</cp:lastPrinted>
  <dcterms:modified xsi:type="dcterms:W3CDTF">2010-03-30T05:46:07Z</dcterms:modified>
  <cp:revision>96</cp:revision>
  <dc:subject/>
  <dc:title>슬라이드 제목 없음</dc:title>
</cp:coreProperties>
</file>