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BC4-0B59-4E5B-B853-3C462D36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F1B-70B0-4206-AED0-622908D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A50-D2A2-4E7A-9800-EDCF3D97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9A7-E6F2-4FF0-B3A9-4AD3B816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B32-8492-4D91-9735-620913E1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566-6758-465A-866D-FE14783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F26-EA1E-4BA7-9838-D20148E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280-6EB4-445E-BBCA-7183325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B7E-2088-400C-B8B9-F8FF866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6F7-3C50-4060-BF21-A9C5C87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65E-666A-4FA8-AB08-23E331AE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C10-F6DF-43FF-A9AF-148794C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2738FF-137E-4B32-90FC-96A7DF1EB2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2480" y="1947240"/>
            <a:ext cx="306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0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52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64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78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61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6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0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3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72400" y="2955240"/>
            <a:ext cx="4280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8720" y="308340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340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38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89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1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5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84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024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388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0760" y="3660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95920" y="3676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8960" y="38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3360" y="38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8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54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91040" y="3409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2880" y="2877840"/>
            <a:ext cx="6714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392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08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90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672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1640" y="1805760"/>
            <a:ext cx="3063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치과용 요양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104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64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27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4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8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3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4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2640" y="3052440"/>
            <a:ext cx="4280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720" y="3027240"/>
            <a:ext cx="42804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904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270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766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88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857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372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904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6264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6240" y="289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7600" y="244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428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372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8400" y="14479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9040" y="3094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3471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4920" y="3487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560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370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3695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369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080" y="228600"/>
            <a:ext cx="50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8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640" y="401976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48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712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2920" y="2644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040" y="2660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9480" y="288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5520" y="288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440" y="286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7600" y="286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2206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76520" y="222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0400" y="244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4200" y="2438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6440" y="2428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7600" y="242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52560" y="1447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3089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638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7160" y="3483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16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64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385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5000" y="263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040" y="2652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42480" y="28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8520" y="285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19680" y="285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5000" y="219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8600" y="221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51840" y="243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5120" y="243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8520" y="2421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9680" y="24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67120" y="14475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5000" y="30812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345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0160" y="3475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0" y="369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27600" y="36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38520" y="36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36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2640" y="26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6960" y="2655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084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744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8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3824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830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7920" y="3483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808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56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65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77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2560" y="327672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3917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99360" y="3799800"/>
            <a:ext cx="4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내과세부전문과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216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408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5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1373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34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54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373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15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268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418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62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074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5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326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389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5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364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15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136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89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231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364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324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136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12800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62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209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37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088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009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21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518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198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60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73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024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37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45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98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659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173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11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37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45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182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29560" y="554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3000" y="5556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26680" y="577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12160" y="577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23080" y="576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57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99200" y="532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4100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5080" y="5530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7000" y="554688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77760" y="5511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068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06920" y="346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81800" y="3478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560" y="3699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89520" y="369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0440" y="368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1600" y="368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2515320"/>
            <a:ext cx="306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440" y="39096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2720" y="3552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61600" y="1942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718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4472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64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586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21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19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16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526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50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444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7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05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74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211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76960" y="5647320"/>
            <a:ext cx="671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739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58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21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65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7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96360" y="4920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439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9520" y="3764520"/>
            <a:ext cx="30636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447920"/>
            <a:ext cx="70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4491000"/>
            <a:ext cx="34909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47760" y="450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4726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2360" y="47419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9360" y="4711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8560" y="5151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1160" y="51674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040" y="5388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51160" y="538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24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35320" y="537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3240" y="449280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79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91720" y="5170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1576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052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14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843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260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0832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2949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80600" y="2965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01400" y="3186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3280" y="31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171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7860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3920" y="2511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50000" y="2527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20840" y="2747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5320" y="27478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744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8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8600" y="33876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95520" y="2495160"/>
            <a:ext cx="16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4040" y="29574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8920" y="55112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제상한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61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9920" y="5170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3240" y="53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6836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796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25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91840" y="4701960"/>
            <a:ext cx="549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투여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 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668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324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45480" y="517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4144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584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676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1000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1792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8080" y="5565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04040" y="3963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5080" y="375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90320" y="37749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2560" y="399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399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860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9760" y="398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75360" y="35812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75480" y="358128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5840" y="3650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2456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00160" y="37879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22760" y="40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0716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1844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9924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94440" y="4200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43520" y="48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1280" y="48610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41000" y="508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288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37400" y="5067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18200" y="506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43520" y="4406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9600" y="4422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0080" y="4643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33240" y="4643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37400" y="46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8200" y="46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04040" y="4932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113520" y="5286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260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38200" y="550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008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4520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5612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3728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8880" y="553104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02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502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0772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92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041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4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3520" y="537228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0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762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9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432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6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51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90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44640" y="55022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72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629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437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390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8824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3840" y="550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864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70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8176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62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58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6940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3132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920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88560" y="20127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04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4640" y="1698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7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13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97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00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50000" y="2036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15240" y="2655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0" y="28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6608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76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383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07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01400" y="26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4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51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62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068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76600" y="5151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9200" y="5167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74800" y="5388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59200" y="538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70480" y="5373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43360" y="537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51280" y="449280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51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144792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12076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41400" y="249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1844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3888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2076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272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41400" y="2060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87480" y="207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868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1640" y="2289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228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1608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1608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07240" y="22906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892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5256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2816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5076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3516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4644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2724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1284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1296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6204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3764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6024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4464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5592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367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12400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8136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5840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84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6072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7488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4776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8136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2708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9756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7108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7488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776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15100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008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7496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98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82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9396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7476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808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2404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459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30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416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24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58920" y="4921200"/>
            <a:ext cx="6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1772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7228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600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3072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0776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278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1008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2424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050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3072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764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4692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596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2424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050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60036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4980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2468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34692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32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4332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24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74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723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9528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80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09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72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0036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36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8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6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8068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6580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7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788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8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8140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7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5788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84640" y="303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7716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8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78520" y="325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5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5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08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8280" y="1895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1416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576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3088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2160" y="211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2296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800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9160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8844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4T11:11:32Z</cp:lastPrinted>
  <dcterms:modified xsi:type="dcterms:W3CDTF">2010-05-17T00:36:54Z</dcterms:modified>
  <cp:revision>135</cp:revision>
  <dc:subject/>
  <dc:title>슬라이드 제목 없음</dc:title>
</cp:coreProperties>
</file>