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1E5B-0209-4641-81F5-DA06A2B60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76E6-E3A0-4D3B-96F1-4D1D154C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7D4D-2884-49EA-819C-8010BD16B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E274-1B4E-47AC-92B9-F2D05367E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7A1B-63A6-4495-BC08-D8422035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9DC4-BF22-4235-9AC0-7A13057D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5DAD-9C15-47DE-B3ED-7F502F38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62CF-4C29-40A0-BC8A-1671FF82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0C06-6BE5-411E-B99D-E326304E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FA7D-7F3D-4EA2-82A2-25AA71BF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919E-FF08-45DA-A218-0358F6B3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49F4-292F-4A63-B2BD-15BAB96C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9314390-4F3A-47D2-B876-26769A138A2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PMC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25640" y="1673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90440" y="168912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3120" y="1909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08240" y="1909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120" y="13716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3280" y="3075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19160" y="1895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3280" y="42940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3280" y="5589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87360" y="1438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1447920"/>
            <a:ext cx="711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85920" y="1895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82640" y="16635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37360" y="16794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80120" y="1900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65240" y="1900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18860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49400" y="1886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4328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0320" y="99072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52396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25520" y="2743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99680" y="2759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23000" y="29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0812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19400" y="2965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9228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0956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25640" y="2743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99440" y="2759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23840" y="2979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0824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19520" y="2965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9240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1164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85800" y="16984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091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942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0552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784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46880" y="29592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23560" y="2975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4400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40400" y="3181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21200" y="3181320"/>
            <a:ext cx="0" cy="426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46880" y="25210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1168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44720" y="2757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15080" y="2757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404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120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807160" y="145080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56240" y="3619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21400" y="36352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554440" y="38559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38840" y="3855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49760" y="3841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30920" y="384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49296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22960" y="2743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96760" y="2759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20440" y="29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0556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16480" y="2965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8972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713088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70600" y="2743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44400" y="2759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68080" y="29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5320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64480" y="2965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3736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056440" y="167328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218440" y="168912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065080" y="16542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10680" y="1457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24640" y="1925280"/>
            <a:ext cx="428040" cy="17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번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+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21920" y="3022560"/>
            <a:ext cx="54972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사업장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처방전 교부기관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기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기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기호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05560" y="3120120"/>
            <a:ext cx="428040" cy="12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공상  등 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종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74440" y="3071520"/>
            <a:ext cx="428040" cy="13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가입자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세대주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21480" y="3252600"/>
            <a:ext cx="6714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사유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구분 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22080" y="3057120"/>
            <a:ext cx="428040" cy="15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 주민등록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증번호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시설기호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53200" y="1913400"/>
            <a:ext cx="428040" cy="18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약국용 요양급여비용 명세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8164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400" y="257040"/>
            <a:ext cx="4366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73392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35480" y="2743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09280" y="275904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33320" y="2979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1808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29000" y="2965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0188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3052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35600" y="2743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09400" y="27590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3440" y="2979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1784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29120" y="2965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0200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90536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35360" y="2743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09160" y="27590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33560" y="2979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1796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29240" y="2965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0212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43580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09600" y="169848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43328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1840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42968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70256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058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220360" y="202212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53880" y="202212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8120" y="1333440"/>
            <a:ext cx="57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4920" y="184464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93280" y="3227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3280" y="4370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3280" y="5513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7792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5868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2068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6768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81160" y="1447920"/>
            <a:ext cx="727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59920" y="76212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PMC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437680" y="1457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104320" y="169236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65960" y="170820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112960" y="16732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06680" y="2955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83360" y="29718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3800" y="3192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89280" y="3192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3178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881360" y="3178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6680" y="25178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00280" y="25336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14240" y="27543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59040" y="2754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00200" y="2739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81360" y="2739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82880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76320" y="340056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16040" y="3778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10000" y="37940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22880" y="4014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98640" y="4014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09560" y="4000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890720" y="4000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886040" y="3578400"/>
            <a:ext cx="58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06800" y="37688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72680" y="37846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14360" y="40053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89040" y="4005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19400" y="3990960"/>
            <a:ext cx="9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81120" y="3990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67080" y="3578400"/>
            <a:ext cx="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33720" y="2612880"/>
            <a:ext cx="3063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처방전교부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733400" y="420840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사용기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79520" y="4028040"/>
            <a:ext cx="306360" cy="17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반복조제횟수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현행 미사용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01960" y="4546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79000" y="456264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99440" y="4782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84560" y="4782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95480" y="4768920"/>
            <a:ext cx="53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76640" y="4768920"/>
            <a:ext cx="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01960" y="41083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995560" y="41241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908800" y="4344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2640" y="4344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95480" y="4330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76640" y="4330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71960" y="3978360"/>
            <a:ext cx="0" cy="13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92600" y="55990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970000" y="561492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89720" y="5835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74840" y="5835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86120" y="5821200"/>
            <a:ext cx="63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66920" y="5821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92600" y="5160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85840" y="51768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00160" y="5397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83760" y="539748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86120" y="5383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66920" y="5383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10000" y="571932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37000" y="457164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21160" y="55990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87040" y="56149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28000" y="5835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3760" y="5835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14680" y="582120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95840" y="5821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59080" y="55990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253400" y="56149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66280" y="5835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41680" y="5835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52960" y="5821200"/>
            <a:ext cx="74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33760" y="5821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7080" y="55990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92040" y="5614920"/>
            <a:ext cx="355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14640" y="5835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089680" y="5835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5821200"/>
            <a:ext cx="71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81760" y="5821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45000" y="55944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530320" y="56102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2560" y="58309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27600" y="5830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19680" y="5816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70520" y="2955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47560" y="297180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68000" y="3192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253120" y="3192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964040" y="3178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245200" y="3178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970520" y="25178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064120" y="25336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978080" y="27543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91560" y="275436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964040" y="2739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45200" y="2739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519264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40160" y="340056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79880" y="3778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74200" y="37940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87440" y="4014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262480" y="4014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973760" y="4000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254560" y="4000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26000" y="2546280"/>
            <a:ext cx="30636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상병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증상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분류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69916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53160" y="27558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71572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8176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96592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594036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02400" y="2962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305400" y="2739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360480" y="275580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2196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58800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57216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654696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30864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4856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702920" y="27558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665840" y="2976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931520" y="29764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91532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788976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65180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819760" y="308880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제투약일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437520" y="2978280"/>
            <a:ext cx="30636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일수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투약일수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2128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195080" y="16984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11840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40388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11480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38768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9092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48720" y="202212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931080" y="16574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986160" y="16732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947640" y="1893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213680" y="1893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197840" y="1879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934320" y="18795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1820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068240" y="202212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430960" y="5821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92080" y="4792680"/>
            <a:ext cx="54972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투약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투여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회투약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238280" y="4992840"/>
            <a:ext cx="549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코드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38120" y="1333440"/>
            <a:ext cx="57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3280" y="3227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93280" y="4370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93280" y="5513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17792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5868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12068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768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81160" y="1447920"/>
            <a:ext cx="727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59920" y="76212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PMC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2108160" y="1433520"/>
            <a:ext cx="0" cy="76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828800" y="26496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934280" y="2665440"/>
            <a:ext cx="35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826280" y="2886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08160" y="2897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822320" y="2871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03480" y="2871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22114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12680" y="22273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827000" y="2448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078280" y="24480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822320" y="2433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103480" y="2433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809720" y="37638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867320" y="37800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807200" y="4000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092320" y="4000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84400" y="3986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809720" y="33256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893960" y="33415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807200" y="3562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030400" y="3562200"/>
            <a:ext cx="326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803240" y="3548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084400" y="35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382840" y="269028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항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597040" y="37609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691720" y="3776760"/>
            <a:ext cx="35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594520" y="3997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79640" y="3997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590920" y="39830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871720" y="3983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812960" y="3983040"/>
            <a:ext cx="84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2640" y="380808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목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790640" y="48783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896840" y="489420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788120" y="5114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73240" y="5114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784520" y="5100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65320" y="5100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790640" y="44402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836720" y="44560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788120" y="4676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951920" y="467676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784520" y="46623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065320" y="4662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089080" y="420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800360" y="55483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873800" y="55641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797480" y="5784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082960" y="5784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793880" y="5764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066760" y="5770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063880" y="5322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065320" y="5410080"/>
            <a:ext cx="37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56760" y="3625560"/>
            <a:ext cx="54972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447920" y="489060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2320" y="5580000"/>
            <a:ext cx="42804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코드구분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444760" y="5553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546640" y="55688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442960" y="5789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727360" y="5789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711520" y="577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714760" y="5410080"/>
            <a:ext cx="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01880" y="55450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804480" y="5560920"/>
            <a:ext cx="355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699360" y="5781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984480" y="5781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968640" y="5767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959360" y="55576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033520" y="55738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957560" y="5794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241960" y="5794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226120" y="5780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587920" y="55576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661720" y="55738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586120" y="5794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870520" y="5794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854680" y="5780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073320" y="55483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147120" y="55641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070800" y="5784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355920" y="5784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692520" y="4320720"/>
            <a:ext cx="67140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약제상한차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상한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단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330800" y="55576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432680" y="557388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28640" y="5794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613400" y="5794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597560" y="5780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343320" y="5410080"/>
            <a:ext cx="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2520" y="5410080"/>
            <a:ext cx="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572000" y="541980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238720" y="541980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842080" y="5413320"/>
            <a:ext cx="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230280" y="3835440"/>
            <a:ext cx="549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투약일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실시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투약량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투약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실시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회투약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428000" y="472608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제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419960" y="27306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84040" y="27464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437240" y="29671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702560" y="2967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686720" y="295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7689960" y="143784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423200" y="2952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5180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06160" y="27558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76800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034400" y="29764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01820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69930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75468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260400" y="3045960"/>
            <a:ext cx="1158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요양급여비용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약제상한차액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비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지원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 일부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비용 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965920" y="16574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020640" y="167328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982120" y="1893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248520" y="1893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232680" y="1879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969160" y="18795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21648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103080" y="202212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448840" y="1444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229600" y="167940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391600" y="169560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238240" y="16606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332160" y="5765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268360" y="5767560"/>
            <a:ext cx="38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38120" y="1333440"/>
            <a:ext cx="57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93280" y="3227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93280" y="4370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93280" y="5513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17792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95868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12068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96768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181160" y="1447920"/>
            <a:ext cx="505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58840" y="76212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PMC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226120" y="2955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284080" y="297180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223600" y="3192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508720" y="3192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219640" y="3178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500800" y="3178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226120" y="25178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291280" y="253368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223960" y="27543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494320" y="2754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219640" y="2739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500800" y="2739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548640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504040" y="3244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235480" y="3632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301000" y="36482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233680" y="38685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518080" y="3868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29360" y="38545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510160" y="3854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97528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030360" y="169848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97276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5788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24204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24528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796000" y="29559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2265480" y="1447920"/>
            <a:ext cx="0" cy="61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986120" y="2498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062800" y="2514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983240" y="2735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265480" y="2746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979640" y="2720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260440" y="2720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986120" y="2060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031840" y="2076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003040" y="22971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196000" y="229716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979640" y="2282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60440" y="2282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260440" y="29210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551600" y="2290680"/>
            <a:ext cx="42804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처방전교부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발생단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673280" y="420012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996920" y="33084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072520" y="33242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995120" y="35449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279520" y="3544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90800" y="35305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271600" y="3530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257560" y="3130560"/>
            <a:ext cx="60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857680" y="313056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606760" y="3321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682000" y="33368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604600" y="3557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889360" y="3557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600280" y="3543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881440" y="3543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2268360" y="374940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25720" y="4394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102760" y="441000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023200" y="4630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05080" y="4641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019240" y="4616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292480" y="4616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25720" y="39560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071800" y="397188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042280" y="4192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215440" y="419256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019240" y="4178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292480" y="417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2289240" y="483552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044800" y="50356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119320" y="50515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042640" y="5272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327400" y="5272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038320" y="5257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31948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692440" y="50356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768400" y="505152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690280" y="5272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975040" y="5272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685960" y="5257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96712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295360" y="4921200"/>
            <a:ext cx="66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962440" y="49212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816640" y="5533560"/>
            <a:ext cx="4280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700360" y="5257800"/>
            <a:ext cx="90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514680" y="50371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592080" y="50529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512160" y="5273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794040" y="5284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508200" y="5259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789360" y="5259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514680" y="45990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560760" y="461484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531240" y="4835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744000" y="483552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508200" y="4821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789360" y="482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3784680" y="547848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533760" y="56786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609000" y="569448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531240" y="5915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816360" y="5915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527280" y="5900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808440" y="5900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181400" y="567864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256640" y="569448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179600" y="59151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64000" y="5915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175280" y="5900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456080" y="5900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784680" y="5564160"/>
            <a:ext cx="66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451400" y="556416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075560" y="468576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특정내역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77080" y="559296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특정내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(주)KT인포텍</dc:creator>
  <dc:description/>
  <cp:keywords/>
  <dc:language>en-US</dc:language>
  <cp:lastModifiedBy>김진성</cp:lastModifiedBy>
  <cp:lastPrinted>2001-07-04T11:21:17Z</cp:lastPrinted>
  <dcterms:modified xsi:type="dcterms:W3CDTF">2010-05-17T00:39:45Z</dcterms:modified>
  <cp:revision>112</cp:revision>
  <dc:subject/>
  <dc:title>슬라이드 제목 없음</dc:title>
</cp:coreProperties>
</file>