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819800"/>
            <a:ext cx="3027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2014200"/>
            <a:ext cx="302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정신과 정액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928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3216600"/>
            <a:ext cx="6678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84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26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648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140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0024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26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955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4640" y="3202920"/>
            <a:ext cx="546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6480" y="30322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3520" y="3048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3960" y="3268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9080" y="3268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3254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1160" y="3254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46480" y="259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0080" y="2610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4680" y="283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3760" y="28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8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1160" y="28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13240" y="1520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2600" y="348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8280" y="424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13440" y="4260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6120" y="448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30880" y="448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1800" y="44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600" y="44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6000" y="3298680"/>
            <a:ext cx="793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0040" y="1755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2920" y="1771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7520" y="199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2640" y="199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3920" y="197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76800" y="197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7760" y="218664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15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1800" y="32360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95040" y="3141360"/>
            <a:ext cx="4280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7204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944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6396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8080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736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8944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6268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9772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512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892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648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9304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512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6320" y="32227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66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67520" y="282420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4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7200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669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0740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4440" y="3051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04520" y="3271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896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092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8172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0740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00640" y="2612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04520" y="283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56880" y="283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0092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8172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284960" y="1523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78840" y="3486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08840" y="42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74360" y="4264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07040" y="448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91440" y="44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02360" y="447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83520" y="447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3560" y="46674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75400" y="2947680"/>
            <a:ext cx="54612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7560" y="4681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16960" y="424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91840" y="4260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3600" y="448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99560" y="448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10480" y="44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91640" y="44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77040" y="404496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96320" y="404640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512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06440" y="1295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28880" y="1523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80360" y="15001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1295280"/>
            <a:ext cx="708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2692800"/>
            <a:ext cx="6714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낮병동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의료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92200" y="26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8440" y="2616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90400" y="28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7480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6080" y="282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60600" y="295560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적용수가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40600" y="153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3480" y="154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8080" y="176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23200" y="176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34120" y="1752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0736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57960" y="196128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060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00280" y="2790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5000" y="2806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16840" y="3027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2880" y="302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67040" y="301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03520" y="301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67192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79000" y="1290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01080" y="1519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68760" y="1495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04960" y="2349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1040" y="2365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21520" y="2585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5640" y="2585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98480" y="257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79640" y="257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8480" y="39704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4000" y="3986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6680" y="4206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4192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3160" y="419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19440" y="4420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2000" y="3205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78200" y="1285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0200" y="260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4520" y="262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38040" y="284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84640" y="284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3720" y="2827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95800" y="28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57560" y="3027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01920" y="1287360"/>
            <a:ext cx="0" cy="13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93960" y="260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88280" y="262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92160" y="284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38760" y="284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7840" y="2827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49560" y="28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11680" y="3027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56040" y="1283760"/>
            <a:ext cx="0" cy="13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680000" y="1292040"/>
            <a:ext cx="0" cy="76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0640" y="2508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06120" y="25239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98120" y="274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0000" y="275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273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753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00640" y="2070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4520" y="208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98480" y="2306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50120" y="23065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94160" y="2292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75320" y="22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560" y="3622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39160" y="3638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79040" y="3859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64160" y="3859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56240" y="38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560" y="3184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65440" y="3200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79040" y="342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2240" y="342108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75080" y="340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6240" y="340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70280" y="294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4680" y="25491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688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63560" y="363528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663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14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624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35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3841920"/>
            <a:ext cx="84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94480" y="3666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2480" y="4737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68680" y="47530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9960" y="4973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5080" y="497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959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37160" y="495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62480" y="4299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08560" y="4314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59960" y="453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23400" y="4535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452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7160" y="452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660920" y="40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71840" y="5398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45640" y="54151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69320" y="563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54440" y="563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65720" y="5621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38600" y="562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1840" y="518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37160" y="5268960"/>
            <a:ext cx="373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89880" y="34110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94280" y="4749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94120" y="5505840"/>
            <a:ext cx="671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6600" y="5411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18120" y="5427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14440" y="5648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99200" y="564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0120" y="5634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83360" y="563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38640" y="4779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86240" y="526896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07440" y="5413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09680" y="5429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4560" y="5649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90040" y="564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00960" y="563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3840" y="563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56440" y="541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30240" y="5432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54280" y="5653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9040" y="5653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9960" y="56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2320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82080" y="424944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24640" y="541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98440" y="5432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21760" y="5653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07240" y="5653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18160" y="56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104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79600" y="3620880"/>
            <a:ext cx="549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투여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 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81760" y="5416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84000" y="5432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79960" y="5653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4360" y="5653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5640" y="56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4852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15480" y="5413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17720" y="54291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13320" y="5649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97720" y="564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09000" y="563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1880" y="563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91040" y="526896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21400" y="5284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55000" y="52768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3040" y="52768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70720" y="52768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56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06440" y="127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28880" y="1508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96200" y="14842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01760" y="1279440"/>
            <a:ext cx="701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28760" y="1268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4940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26440" y="27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4688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28760" y="3017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328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24080" y="299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9400" y="2332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95480" y="2347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66680" y="256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70800" y="25686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43280" y="255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24080" y="255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24080" y="320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49520" y="27777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49520" y="3784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60560" y="3579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36160" y="35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58040" y="3816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43160" y="3816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54080" y="3801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35240" y="380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20840" y="340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20960" y="3402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91320" y="3471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70040" y="3592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45640" y="3608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68240" y="3828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52640" y="3828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63920" y="3814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44720" y="38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32000" y="4020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9000" y="4665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6760" y="46814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86480" y="4902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8360" y="4913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2880" y="4888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55760" y="488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9000" y="4227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35080" y="42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05560" y="44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79080" y="44640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82880" y="444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3680" y="44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49520" y="4752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259000" y="51069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08080" y="5307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3680" y="53229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5560" y="554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90680" y="554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01960" y="55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2760" y="55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4360" y="535140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55720" y="5307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0960" y="5322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53200" y="554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38320" y="554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49600" y="55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30400" y="55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59000" y="519264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25720" y="5192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9000" y="45468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14880" y="530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90120" y="53229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12720" y="5543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97120" y="554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08400" y="552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9200" y="55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4520" y="5192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33720" y="5307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09320" y="532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1920" y="5543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16320" y="554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27600" y="55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08400" y="55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95800" y="5192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88360" y="261540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13080" y="2563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67800" y="2579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29640" y="2800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6040" y="28004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79840" y="27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54640" y="1271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16320" y="278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8600" y="2894400"/>
            <a:ext cx="164484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신과행위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200" y="2563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56560" y="2579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19480" y="2800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84800" y="2800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68960" y="27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43400" y="1271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05440" y="278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19640" y="2563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74360" y="2579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36560" y="2800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01880" y="2800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86040" y="27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660840" y="1271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22520" y="278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251400" y="127800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72040" y="2320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49080" y="2336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69520" y="255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51400" y="256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65920" y="254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6720" y="254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2040" y="1882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18120" y="1898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89320" y="2119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29440" y="211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65920" y="2104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46720" y="210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67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37880" y="211284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59560" y="4022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3200" y="3130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58800" y="3146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81400" y="3367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65800" y="336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77080" y="3352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7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3480" y="29527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43600" y="2952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93040" y="3143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68280" y="3159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90880" y="3379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75640" y="3379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86560" y="3365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67360" y="336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54640" y="3571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42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89040" y="4232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9120" y="445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91360" y="44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05520" y="443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78400" y="443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12000" y="37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58080" y="3794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2820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01720" y="4014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0552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7840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281640" y="46576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31080" y="4857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05600" y="4873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2892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1332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4600" y="507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0540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78720" y="4857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54680" y="4873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7656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6132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2240" y="507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5340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81640" y="4743360"/>
            <a:ext cx="66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48360" y="47433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67560" y="507996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481880" y="48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59280" y="4875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79360" y="50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61240" y="51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75400" y="508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56560" y="508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81880" y="442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27960" y="4437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98440" y="4657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11200" y="46576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4643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56560" y="46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751880" y="53006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0960" y="5500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7620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98440" y="5737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78356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9448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7564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48600" y="5500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22384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46800" y="573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4212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2328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51880" y="538632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418600" y="5386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44280" y="5415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31600" y="45079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08800" y="126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31240" y="1496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98920" y="14731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04000" y="52812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56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6440" y="127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28880" y="1508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96200" y="14842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01760" y="1279440"/>
            <a:ext cx="168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14480" y="2803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72440" y="2819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11960" y="3040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7080" y="3040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08000" y="302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89160" y="302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14480" y="236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79640" y="2381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12680" y="2602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82680" y="260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258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89160" y="258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8448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24200" y="3495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9360" y="3511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22040" y="3732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6800" y="3732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7720" y="371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98520" y="371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06840" y="1514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1560" y="1530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03960" y="1751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89440" y="1751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1736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3240" y="173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76480" y="127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84360" y="2803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93840" y="12873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cp:keywords/>
  <dc:language>en-US</dc:language>
  <cp:lastModifiedBy>건강보험심사평가원</cp:lastModifiedBy>
  <cp:lastPrinted>2001-03-16T09:01:46Z</cp:lastPrinted>
  <dcterms:modified xsi:type="dcterms:W3CDTF">2010-05-18T04:53:28Z</dcterms:modified>
  <cp:revision>158</cp:revision>
  <dc:subject/>
  <dc:title>슬라이드 제목 없음</dc:title>
</cp:coreProperties>
</file>