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docx" ContentType="application/vnd.openxmlformats-officedocument.wordprocessingml.document"/>
  <Override PartName="/ppt/embeddings/oleObject4.docx" ContentType="application/vnd.openxmlformats-officedocument.wordprocessingml.document"/>
  <Override PartName="/ppt/embeddings/oleObject5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796088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FBBCA-D97C-4AEE-957F-52C303A3D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DE8D2-3F7C-476F-9B38-9555D0872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CA859-719A-4064-BCCF-F6BEE1C94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759B9-D5AE-46D4-8BB3-9F639B8D0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1E124-FE72-4C26-806C-EAF514650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A2185-5172-4B2E-A946-A28F74FF6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5F41F-EA4A-4ADA-8970-1AA2B344C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21F50-6ED3-4552-9AF8-E166EED0A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30795-5079-4FF2-A84B-F37CED3A7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1956A-4F3B-455B-B89E-F39A9AAC0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31C21-F5F0-4CCD-AF6A-C04798EB7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CFB47-63D2-4394-BCD4-0DA80827D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ko-KR" sz="1400" spc="-1" strike="noStrike">
                <a:solidFill>
                  <a:srgbClr val="000000"/>
                </a:solidFill>
                <a:latin typeface="Arial"/>
                <a:ea typeface="돋움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ko-KR" sz="1400" spc="-1" strike="noStrike">
                <a:solidFill>
                  <a:srgbClr val="000000"/>
                </a:solidFill>
                <a:latin typeface="Arial"/>
                <a:ea typeface="돋움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ko-KR" sz="1400" spc="-1" strike="noStrike">
                <a:solidFill>
                  <a:srgbClr val="000000"/>
                </a:solidFill>
                <a:latin typeface="Arial"/>
                <a:ea typeface="돋움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DBC1D804-0E5E-4D6B-9070-CE25276C5C87}" type="slidenum">
              <a:rPr b="0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돋움체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2" marL="1017000" indent="-203400">
              <a:spcBef>
                <a:spcPts val="799"/>
              </a:spcBef>
              <a:buClr>
                <a:srgbClr val="000000"/>
              </a:buClr>
              <a:buSzPct val="8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3" marL="1424160" indent="-20340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4" marL="1830960" indent="-20340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1.wmf"/><Relationship Id="rId7" Type="http://schemas.openxmlformats.org/officeDocument/2006/relationships/package" Target="../embeddings/oleObject4.docx"/><Relationship Id="rId8" Type="http://schemas.openxmlformats.org/officeDocument/2006/relationships/image" Target="../media/image1.wmf"/><Relationship Id="rId9" Type="http://schemas.openxmlformats.org/officeDocument/2006/relationships/package" Target="../embeddings/oleObject5.docx"/><Relationship Id="rId10" Type="http://schemas.openxmlformats.org/officeDocument/2006/relationships/image" Target="../media/image1.wmf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0920" y="674640"/>
            <a:ext cx="8642160" cy="5778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838320" y="866880"/>
            <a:ext cx="1684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전자문서 구조도 </a:t>
            </a: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PAGE 1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(MEDRL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55640" y="181764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20800" y="1833480"/>
            <a:ext cx="404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UN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53120" y="20541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038240" y="20541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39120" y="150660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49160" y="203976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23280" y="442908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23280" y="572436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17720" y="15825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015920" y="1582560"/>
            <a:ext cx="7185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156120" y="288144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39280" y="2897280"/>
            <a:ext cx="36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C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153240" y="31179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438360" y="31179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149640" y="310356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22520" y="31035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492200" y="2070000"/>
            <a:ext cx="306360" cy="195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요양급여비용 심사결과통보서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900000" y="2042280"/>
            <a:ext cx="30636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전자문서 참조번호</a:t>
            </a:r>
            <a:r>
              <a:rPr b="0" lang="en-US" sz="800" spc="-1" strike="noStrike">
                <a:solidFill>
                  <a:srgbClr val="000000"/>
                </a:solidFill>
                <a:latin typeface="굴림체"/>
                <a:ea typeface="굴림체"/>
              </a:rPr>
              <a:t>(</a:t>
            </a: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심사차수</a:t>
            </a:r>
            <a:r>
              <a:rPr b="0" lang="en-US" sz="800" spc="-1" strike="noStrike">
                <a:solidFill>
                  <a:srgbClr val="000000"/>
                </a:solidFill>
                <a:latin typeface="굴림체"/>
                <a:ea typeface="굴림체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015920" y="20397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556000" y="287496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648880" y="2890800"/>
            <a:ext cx="399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NA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53120" y="311148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838600" y="31114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49520" y="30970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822400" y="30970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2835360" y="1582200"/>
            <a:ext cx="0" cy="129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3416400" y="1582200"/>
            <a:ext cx="0" cy="129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765600" y="287496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831120" y="289080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R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763440" y="311148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48200" y="31114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759120" y="30970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040280" y="30970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4016520" y="1582200"/>
            <a:ext cx="0" cy="129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356000" y="287496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422240" y="289080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AG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354200" y="311148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638600" y="31114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349880" y="309708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630680" y="30970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4606920" y="1582200"/>
            <a:ext cx="0" cy="129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629320" y="279252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677200" y="280836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DT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625000" y="30337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673600" y="3029040"/>
            <a:ext cx="184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622840" y="30146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875200" y="3014640"/>
            <a:ext cx="0" cy="628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629320" y="235440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94120" y="237024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26800" y="25909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41000" y="2590920"/>
            <a:ext cx="35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622840" y="25765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875200" y="25765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892840" y="158220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6240" y="3411360"/>
            <a:ext cx="306360" cy="80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909960" y="3373560"/>
            <a:ext cx="3063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500720" y="3351240"/>
            <a:ext cx="30636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4840" y="181764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429200" y="1833480"/>
            <a:ext cx="418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BG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372320" y="20541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657440" y="20541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368360" y="203976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641600" y="20397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644480" y="15825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1052640" y="2588400"/>
            <a:ext cx="30636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vert="eaVert" rot="108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235320" y="3324240"/>
            <a:ext cx="30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지원코드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90320" y="1125360"/>
            <a:ext cx="5767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LE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2235240" y="1582200"/>
            <a:ext cx="0" cy="129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936800" y="287820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009880" y="289404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DT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934280" y="31147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219400" y="31147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930320" y="31003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203560" y="3100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052720" y="3349800"/>
            <a:ext cx="30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통보일자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908680" y="30384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946760" y="287496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012280" y="2890800"/>
            <a:ext cx="378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FT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44600" y="311148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229360" y="31114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940280" y="30970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221440" y="30970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197320" y="1582200"/>
            <a:ext cx="0" cy="129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091120" y="3351240"/>
            <a:ext cx="30636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49520" y="4633920"/>
            <a:ext cx="30636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873760" y="3424320"/>
            <a:ext cx="2228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603760" y="364320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86920" y="365904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R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601240" y="38797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886360" y="38797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97640" y="386568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870520" y="3865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508880" y="407844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57480" y="4094280"/>
            <a:ext cx="399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NA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504560" y="431964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543800" y="43149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502400" y="430056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508880" y="363996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574040" y="365616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516440" y="387684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805880" y="38768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02400" y="38624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92920" y="38624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788240" y="43243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770960" y="4297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8166240" y="467208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8220960" y="4687920"/>
            <a:ext cx="422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O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8164080" y="490860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8448840" y="49086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9760" y="48942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8432640" y="48942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652840" y="3304440"/>
            <a:ext cx="3063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요양기관  기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168960" y="2727360"/>
            <a:ext cx="30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진료기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477400" y="4009680"/>
            <a:ext cx="793080" cy="10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청구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보험자종별 구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청구서 일련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묶음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접수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8005320" y="3840840"/>
            <a:ext cx="549720" cy="78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심사담당자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심사담당조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심사당담부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8298000" y="5106960"/>
            <a:ext cx="30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전화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834320" y="1795320"/>
            <a:ext cx="520560" cy="292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996320" y="1811160"/>
            <a:ext cx="42048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842960" y="177624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210520" y="15746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24000" y="29718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80880" y="363600"/>
            <a:ext cx="46245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다</a:t>
            </a:r>
            <a:r>
              <a:rPr b="1" lang="en-US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. </a:t>
            </a:r>
            <a:r>
              <a:rPr b="1" lang="zh-CN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전자문서 구조도</a:t>
            </a:r>
            <a:r>
              <a:rPr b="1" lang="en-US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(Message branching diagra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232680" y="364644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298200" y="3662280"/>
            <a:ext cx="418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O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230520" y="388296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515280" y="38829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226200" y="386856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507000" y="38685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6512040" y="34207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377040" y="4122720"/>
            <a:ext cx="30636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861240" y="366552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927120" y="3681360"/>
            <a:ext cx="36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C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858720" y="390204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143840" y="39020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854760" y="38876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135920" y="38876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7140600" y="3439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005600" y="4141800"/>
            <a:ext cx="30636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7778880" y="34207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845480" y="2906640"/>
            <a:ext cx="520560" cy="292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8007480" y="2922480"/>
            <a:ext cx="42048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854120" y="288756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8102520" y="3195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962760" y="4003560"/>
            <a:ext cx="306360" cy="10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모호성 구분항목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088040" y="198900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154280" y="200484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AG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085520" y="22255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370640" y="22255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081920" y="221148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362720" y="22114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232760" y="2465280"/>
            <a:ext cx="30636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7338960" y="1579680"/>
            <a:ext cx="0" cy="419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720480" y="2190240"/>
            <a:ext cx="428040" cy="50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분리자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모호성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770960" y="451944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520040" y="466416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575480" y="4680000"/>
            <a:ext cx="5335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T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517880" y="490068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802640" y="49006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513560" y="4886280"/>
            <a:ext cx="65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786800" y="48862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387360" y="539640"/>
            <a:ext cx="8445600" cy="5778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85720" y="685800"/>
            <a:ext cx="5767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LE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93280" y="160020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93280" y="271152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93280" y="385452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93280" y="499752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076400" y="12272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990720" y="1455840"/>
            <a:ext cx="520560" cy="291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152360" y="1471680"/>
            <a:ext cx="420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999360" y="143676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066680" y="1219320"/>
            <a:ext cx="746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969360" y="690480"/>
            <a:ext cx="1684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전자문서 구조도 </a:t>
            </a: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PAGE 2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(MEDRL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361120" y="331632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426280" y="333216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DT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358960" y="355284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580000" y="35528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354640" y="35384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603760" y="35384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649680" y="2940120"/>
            <a:ext cx="30636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356000" y="2940120"/>
            <a:ext cx="30636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735440" y="3319560"/>
            <a:ext cx="52092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801320" y="3335400"/>
            <a:ext cx="3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QT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33640" y="355608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018040" y="35560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729320" y="354168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010120" y="3541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866880" y="205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62120" y="2276640"/>
            <a:ext cx="520560" cy="291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923760" y="2292480"/>
            <a:ext cx="420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70760" y="225756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871560" y="2052720"/>
            <a:ext cx="7643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8148600" y="1447920"/>
            <a:ext cx="520560" cy="291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8282160" y="1463760"/>
            <a:ext cx="420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8157240" y="142884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524800" y="12272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744560" y="264960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821600" y="2665440"/>
            <a:ext cx="399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NA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742040" y="28861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23920" y="28972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738440" y="28717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019240" y="28717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744560" y="2211480"/>
            <a:ext cx="52092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838160" y="222732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42760" y="244800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938240" y="2433600"/>
            <a:ext cx="4669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9999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738440" y="24336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019240" y="2433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319400" y="2009880"/>
            <a:ext cx="517356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수진자요양급여비용총액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</a:t>
            </a: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약제상한차액총액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보훈심사결정액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   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보훈부담금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   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진료비총액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본인부담상한액초과금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조정소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조정소계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심사 결정액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위탁검사 직접지급금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장애인의료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보험자 부담금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         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지원금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  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본인부담금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요양급여비용 총액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심사결정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수진자요양급여비용총액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</a:t>
            </a: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약제상한차액총액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 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보훈청구액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  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비급여총액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본인부담총액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  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진료비총액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본인부담상한액초과금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         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청구액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장애인의료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특수장비  총액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        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지원금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 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본인부담금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요양급여비용  총액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청구사항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재진료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초진료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454640" y="3526200"/>
            <a:ext cx="1036440" cy="22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처방횟수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요양급여일수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입원일수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내원일수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재진 가산횟수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(3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일분이상 투약횟수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재진횟수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(2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일분 투약횟수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초진 가산횟수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(1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일분 투약횟수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초진횟수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001960" y="3181320"/>
            <a:ext cx="4206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442120" y="3704400"/>
            <a:ext cx="306360" cy="78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요양개시일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014560" y="30830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17920" y="318780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744560" y="3311640"/>
            <a:ext cx="52092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811160" y="332748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AL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742040" y="35481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027160" y="35481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738440" y="353376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019240" y="35337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347920" y="332748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413800" y="334332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R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345400" y="356400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580120" y="3564000"/>
            <a:ext cx="297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341440" y="35496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622600" y="3549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234800" y="2564280"/>
            <a:ext cx="549720" cy="81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사업장기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수진자 성명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064960" y="3706560"/>
            <a:ext cx="914760" cy="10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정액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.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정률구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증 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공상등구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진료형태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명세서 일련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807200" y="3635640"/>
            <a:ext cx="428040" cy="16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심사결정본인추가부담금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심사결정본인부담 환급금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339880" y="2887560"/>
            <a:ext cx="213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444280" y="2890800"/>
            <a:ext cx="2430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I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2023920" y="205416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958000" y="374652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035400" y="3762360"/>
            <a:ext cx="3434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L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955480" y="398304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240600" y="39830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951520" y="39686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232680" y="39686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958000" y="330840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051600" y="332424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955840" y="354492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147720" y="3544920"/>
            <a:ext cx="4107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999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951520" y="35305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32680" y="35305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964120" y="485604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40800" y="4871880"/>
            <a:ext cx="418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O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961600" y="50925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46720" y="50925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958000" y="50785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238800" y="50785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964120" y="441792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057720" y="443376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961600" y="465444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242040" y="46544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58000" y="46404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238800" y="46404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234120" y="4192560"/>
            <a:ext cx="0" cy="238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986440" y="550872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052320" y="552456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R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3920" y="574524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269040" y="57452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979960" y="57308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261120" y="57308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626160" y="551808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691680" y="5533920"/>
            <a:ext cx="378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FT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4360" y="575460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908760" y="57546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620040" y="574056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900840" y="57405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710320" y="3912840"/>
            <a:ext cx="306360" cy="50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줄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700600" y="4795920"/>
            <a:ext cx="30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조정금액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733800" y="4722840"/>
            <a:ext cx="549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줄번호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비고사항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코드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856760" y="5516640"/>
            <a:ext cx="1158120" cy="9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관련근거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심사불능 세부사유코드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조정상세사유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조정사유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     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구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147640" y="5464080"/>
            <a:ext cx="243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I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234120" y="52992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6238800" y="5380200"/>
            <a:ext cx="193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896160" y="537228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143240" y="332424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209120" y="3340080"/>
            <a:ext cx="418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O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140720" y="35607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380120" y="3560760"/>
            <a:ext cx="297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137120" y="354636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417920" y="3546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384800" y="317484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013360" y="318132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599080" y="316692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208560" y="31719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208320" y="317484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2938320" y="3330720"/>
            <a:ext cx="52092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004200" y="3346560"/>
            <a:ext cx="378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FT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936520" y="356724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192840" y="3567240"/>
            <a:ext cx="297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932200" y="355284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213000" y="35528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917440" y="3728880"/>
            <a:ext cx="549720" cy="10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명일련 비고사항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특정기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심사담당조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7315200" y="245736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7381440" y="247320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AG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7312680" y="269388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597800" y="26938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7308720" y="26798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7589880" y="26798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956200" y="2933640"/>
            <a:ext cx="30636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 flipV="1">
            <a:off x="7566120" y="2048040"/>
            <a:ext cx="0" cy="419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814920" y="31910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544920" y="333072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610800" y="3346560"/>
            <a:ext cx="36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C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3543120" y="356724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3827520" y="35672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538440" y="35528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819600" y="35528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665520" y="3660480"/>
            <a:ext cx="306360" cy="136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주상병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주증상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코드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8145360" y="2265480"/>
            <a:ext cx="520920" cy="291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8278920" y="2281320"/>
            <a:ext cx="420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8154000" y="224640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8521560" y="2044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202360" y="2052720"/>
            <a:ext cx="30636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13240" y="1916280"/>
            <a:ext cx="30636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5413320" y="2990880"/>
          <a:ext cx="150840" cy="206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13320" y="2990880"/>
                    <a:ext cx="150840" cy="20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5526000" y="2990880"/>
          <a:ext cx="150840" cy="2062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526000" y="2990880"/>
                    <a:ext cx="150840" cy="20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3" name=""/>
          <p:cNvGraphicFramePr/>
          <p:nvPr/>
        </p:nvGraphicFramePr>
        <p:xfrm>
          <a:off x="5823000" y="5942160"/>
          <a:ext cx="150840" cy="20628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36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23000" y="5942160"/>
                    <a:ext cx="150840" cy="20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5" name=""/>
          <p:cNvGraphicFramePr/>
          <p:nvPr/>
        </p:nvGraphicFramePr>
        <p:xfrm>
          <a:off x="8088480" y="6137280"/>
          <a:ext cx="150480" cy="206280"/>
        </p:xfrm>
        <a:graphic>
          <a:graphicData uri="http://schemas.openxmlformats.org/presentationml/2006/ole">
            <p:oleObj progId="Word.Document.12" r:id="rId7" spid="">
              <p:embed/>
              <p:pic>
                <p:nvPicPr>
                  <p:cNvPr id="36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8088480" y="6137280"/>
                    <a:ext cx="150480" cy="20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7" name=""/>
          <p:cNvSpPr/>
          <p:nvPr/>
        </p:nvSpPr>
        <p:spPr>
          <a:xfrm>
            <a:off x="8177040" y="6105600"/>
            <a:ext cx="4287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사용유보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619440" y="2133720"/>
            <a:ext cx="5763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5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1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/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1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7261200" y="552132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7327080" y="5537160"/>
            <a:ext cx="355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R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7258680" y="575784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7543800" y="57578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7254720" y="57434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7535880" y="57434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7194600" y="4365720"/>
            <a:ext cx="671400" cy="103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상한가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            </a:t>
            </a:r>
            <a:r>
              <a:rPr b="1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조정금액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약제상한차액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단가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7889760" y="551664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7956000" y="5532480"/>
            <a:ext cx="3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QT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7887240" y="57531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8172360" y="57531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7883640" y="573876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164440" y="57387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7764480" y="2968560"/>
            <a:ext cx="671400" cy="28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총투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총투여량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,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투여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실시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횟수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),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인정횟수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일투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(1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일투여량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,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투여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실시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횟수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),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인정횟수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회투약인정량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7529400" y="536112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155080" y="53560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6877800" y="2436480"/>
            <a:ext cx="428040" cy="50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분리자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모호성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6" name=""/>
          <p:cNvGraphicFramePr/>
          <p:nvPr/>
        </p:nvGraphicFramePr>
        <p:xfrm>
          <a:off x="5330880" y="5950080"/>
          <a:ext cx="150840" cy="206280"/>
        </p:xfrm>
        <a:graphic>
          <a:graphicData uri="http://schemas.openxmlformats.org/presentationml/2006/ole">
            <p:oleObj progId="Word.Document.12" r:id="rId9" spid="">
              <p:embed/>
              <p:pic>
                <p:nvPicPr>
                  <p:cNvPr id="38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330880" y="5950080"/>
                    <a:ext cx="150840" cy="20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387360" y="539640"/>
            <a:ext cx="8445600" cy="5778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42440" y="1287360"/>
            <a:ext cx="5767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LE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593280" y="182088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3280" y="292248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93280" y="398952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93280" y="513252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1287360" y="1447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996840" y="1663560"/>
            <a:ext cx="520920" cy="292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1058760" y="1679400"/>
            <a:ext cx="42084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019880" y="164448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1295280" y="1447920"/>
            <a:ext cx="6991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839040" y="731880"/>
            <a:ext cx="1684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전자문서 구조도 </a:t>
            </a: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PAGE 3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(MEDRL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581280" y="4876920"/>
            <a:ext cx="1143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505320" y="5105520"/>
            <a:ext cx="25146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581280" y="5105520"/>
            <a:ext cx="1676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6726240" y="272088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6802920" y="273672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R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723720" y="295740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7008840" y="29574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719760" y="294336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7000920" y="2943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726240" y="228276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781680" y="229860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724440" y="251928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948360" y="2519280"/>
            <a:ext cx="4669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9999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719760" y="25052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7000920" y="25052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6999120" y="3168720"/>
            <a:ext cx="0" cy="333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7013520" y="460692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7607160" y="4606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8236080" y="4606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464160" y="3979440"/>
            <a:ext cx="306360" cy="50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줄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6465960" y="2535120"/>
            <a:ext cx="306360" cy="10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명세서 일련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6815160" y="5222160"/>
            <a:ext cx="306360" cy="9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수탁기관 기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459200" y="5114160"/>
            <a:ext cx="54972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위탁검사 직접지급금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014320" y="5253120"/>
            <a:ext cx="4280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비고사항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처리코드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718320" y="481644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6782760" y="4832280"/>
            <a:ext cx="399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NA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6715800" y="50529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000920" y="50529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6711840" y="503856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6985080" y="50385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7346880" y="4822920"/>
            <a:ext cx="52092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7420320" y="4838760"/>
            <a:ext cx="418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O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7337880" y="505944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7629480" y="50594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7340760" y="504504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7607160" y="50450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7956720" y="482616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8044200" y="4842000"/>
            <a:ext cx="378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FT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7954560" y="506268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8238960" y="50626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950240" y="50482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223120" y="50482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6727680" y="394956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805440" y="3965400"/>
            <a:ext cx="3434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L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6725160" y="418608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7010280" y="41860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6721560" y="417204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7002360" y="41720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6727680" y="351144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6783120" y="352728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6725160" y="37479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6925680" y="3747960"/>
            <a:ext cx="4107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999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721560" y="37339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700236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7005600" y="4387680"/>
            <a:ext cx="0" cy="41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5803920" y="230184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5866920" y="231768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AG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5801400" y="25383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6083280" y="25383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5797440" y="252396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6075360" y="25239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7486560" y="228276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7552440" y="2298600"/>
            <a:ext cx="36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I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484040" y="251928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7769160" y="25192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480440" y="250524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7761240" y="25052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4484520" y="340200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550400" y="3417840"/>
            <a:ext cx="418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O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4496400" y="36385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4767120" y="36385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4478400" y="36241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4745160" y="3624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4761000" y="3252960"/>
            <a:ext cx="75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4430880" y="3763440"/>
            <a:ext cx="671400" cy="15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감내역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조정금액 합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심사불능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요양급여비용 총액 합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4764240" y="31590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4486320" y="272412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4563000" y="273996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R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4483800" y="296064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765680" y="29718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479840" y="29462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4761000" y="29462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4486320" y="228600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4579920" y="230184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4484160" y="252252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4726080" y="25225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4479840" y="25081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4761000" y="2508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3969720" y="2412720"/>
            <a:ext cx="549720" cy="11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  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사항구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심사불능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.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감내역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 flipV="1">
            <a:off x="4786200" y="20570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8292960" y="1447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8002440" y="1663560"/>
            <a:ext cx="520920" cy="292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8064360" y="1679400"/>
            <a:ext cx="42084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025480" y="164448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1541520" y="2308320"/>
            <a:ext cx="420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V="1">
            <a:off x="6070680" y="20664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V="1">
            <a:off x="6997680" y="20664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V="1">
            <a:off x="7759800" y="20664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7607160" y="2707920"/>
            <a:ext cx="30636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모호성분리자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5508720" y="2165040"/>
            <a:ext cx="30636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모호성분리자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5249880" y="341964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5315760" y="3435480"/>
            <a:ext cx="3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QT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5247360" y="36561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5532480" y="36561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5243400" y="364176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5524560" y="36417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59320" y="3900600"/>
            <a:ext cx="30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건수합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8194680" y="2265480"/>
            <a:ext cx="520560" cy="291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8327880" y="2281320"/>
            <a:ext cx="420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8203320" y="224640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8475840" y="2044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5514840" y="325908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 flipV="1">
            <a:off x="2212920" y="20412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1909800" y="271944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1986480" y="273528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R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1907280" y="29559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2192400" y="29559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1903320" y="294156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2184480" y="29415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1909800" y="228132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2003400" y="229716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1907280" y="251784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2178000" y="25178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1903320" y="25034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2184480" y="25034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1914480" y="344016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1981080" y="345600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AL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1911960" y="367668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2197080" y="36766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1908000" y="36622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2189160" y="36622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2774880" y="329076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2495520" y="344016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2561040" y="3456000"/>
            <a:ext cx="418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O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2507400" y="367668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2730960" y="3676680"/>
            <a:ext cx="297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2489040" y="36622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2755800" y="36622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3071880" y="343548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3137760" y="3451320"/>
            <a:ext cx="3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QT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3069360" y="367200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354480" y="36720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3065400" y="36576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3346560" y="3657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3332160" y="328284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2197080" y="3284640"/>
            <a:ext cx="1123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1692720" y="3619440"/>
            <a:ext cx="428040" cy="154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본인추가부담금 합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본인부담환급금 합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3567600" y="3283200"/>
            <a:ext cx="4280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건수합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2179800" y="3152880"/>
            <a:ext cx="0" cy="285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2057400" y="3710880"/>
            <a:ext cx="2009880" cy="189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약제상한차액조정금액합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수진자요양급여비용총액합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약제상한차액총액합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보훈심사결정액 합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보훈부담금 합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진료비총액 합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본인부담상한액초과금 합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심사결정액 합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위탁검사직접지급금 합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장애인의료비합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요양급여비용 합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보험자 부담금 합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청구액 합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지원금합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본인부담금 합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1505520" y="2302920"/>
            <a:ext cx="428040" cy="139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청구사항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/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심결사항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합계구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3181320" y="244800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3247560" y="246384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AG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3178800" y="26845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3463920" y="26845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3174840" y="26701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3456000" y="2670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3325680" y="2924280"/>
            <a:ext cx="3063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 flipV="1">
            <a:off x="3432240" y="2038320"/>
            <a:ext cx="0" cy="419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3194640" y="2823840"/>
            <a:ext cx="428040" cy="50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분리자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모호성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1262160" y="20494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990720" y="2279520"/>
            <a:ext cx="520560" cy="292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1052640" y="2295360"/>
            <a:ext cx="42048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1013400" y="226044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1262160" y="2052720"/>
            <a:ext cx="7208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"/>
          <p:cNvSpPr/>
          <p:nvPr/>
        </p:nvSpPr>
        <p:spPr>
          <a:xfrm>
            <a:off x="387360" y="539640"/>
            <a:ext cx="8445600" cy="5778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442440" y="1287360"/>
            <a:ext cx="5767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LE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593280" y="182088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593280" y="292248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593280" y="398952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593280" y="513252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1287360" y="1447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996840" y="1663560"/>
            <a:ext cx="520920" cy="292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1058760" y="1679400"/>
            <a:ext cx="42084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1019880" y="164448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1295280" y="1447920"/>
            <a:ext cx="69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3839040" y="731880"/>
            <a:ext cx="1684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전자문서 구조도 </a:t>
            </a: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PAGE 4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(MEDRL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3581280" y="4876920"/>
            <a:ext cx="1143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3505320" y="5105520"/>
            <a:ext cx="25146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3581280" y="5105520"/>
            <a:ext cx="1676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V="1">
            <a:off x="7461360" y="1447560"/>
            <a:ext cx="0" cy="48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7182000" y="237168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7259040" y="2387520"/>
            <a:ext cx="3891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AU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7179120" y="260820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7464600" y="26082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7175520" y="25938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7456320" y="2593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7182000" y="193356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7237440" y="1949400"/>
            <a:ext cx="439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7179840" y="217008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7469280" y="21700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7175520" y="21556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456320" y="2155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183440" y="304488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275600" y="306072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DT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181640" y="328140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466040" y="32814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176960" y="32670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450200" y="32670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462800" y="2809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8256600" y="14479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996320" y="190512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8062200" y="1920960"/>
            <a:ext cx="393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U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7993800" y="214164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8278920" y="21416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7989840" y="21272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8271000" y="21272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783560" y="2484360"/>
            <a:ext cx="30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인증결과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643800" y="14526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6383160" y="190980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6449400" y="1925640"/>
            <a:ext cx="399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U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6380640" y="21463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665760" y="21463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6377040" y="21319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6657840" y="2131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6492960" y="2331720"/>
            <a:ext cx="306360" cy="72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구분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.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제어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4478400" y="340524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4544280" y="3421080"/>
            <a:ext cx="3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QT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4489920" y="36417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4761000" y="36417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4471920" y="362736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4738680" y="3627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4765680" y="3278160"/>
            <a:ext cx="657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5153040" y="342252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5218560" y="3438360"/>
            <a:ext cx="418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O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5151240" y="365904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5435640" y="36590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5146560" y="36450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5427720" y="36450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5413320" y="32702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5180760" y="3762720"/>
            <a:ext cx="428040" cy="15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진찰료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조제료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차감액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총진찰료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4302720" y="3790080"/>
            <a:ext cx="793080" cy="108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진료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조제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일수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의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약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사수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근무일수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총진찰횟수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차등지수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4765680" y="31780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4484520" y="272736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4562280" y="2743200"/>
            <a:ext cx="3434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L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4482000" y="296388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4764240" y="29750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4478400" y="294948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4759200" y="29494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4484520" y="228924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4578480" y="2305080"/>
            <a:ext cx="439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1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4482720" y="252576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4724280" y="25257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4478400" y="251136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4759200" y="2511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 flipV="1">
            <a:off x="4784760" y="20602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4192560" y="2711160"/>
            <a:ext cx="30636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모호성분리자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2668680" y="314640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2745720" y="316224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AG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2666160" y="33829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2948040" y="33940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662200" y="33685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2943360" y="33685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2668680" y="270828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2714760" y="2724120"/>
            <a:ext cx="439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1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684880" y="294480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2889720" y="2944800"/>
            <a:ext cx="35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2662200" y="29304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2943360" y="29304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2943360" y="3584520"/>
            <a:ext cx="0" cy="219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2398680" y="3982680"/>
            <a:ext cx="306360" cy="10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처방전 교부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2988360" y="5659560"/>
            <a:ext cx="4280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비고사항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사유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2679840" y="380376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2755080" y="381960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R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2676960" y="404028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62440" y="40402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2673360" y="40258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2954160" y="40258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 flipV="1">
            <a:off x="2959200" y="4244760"/>
            <a:ext cx="0" cy="199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708280" y="488952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2786040" y="4905360"/>
            <a:ext cx="3434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L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2705760" y="512604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2987640" y="51372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2701800" y="5111640"/>
            <a:ext cx="79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982960" y="51116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2708280" y="445140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2754360" y="4467240"/>
            <a:ext cx="439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2724840" y="46879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2905920" y="4687920"/>
            <a:ext cx="4107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999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2701800" y="46735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2982960" y="46735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2390760" y="4935240"/>
            <a:ext cx="306360" cy="50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줄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flipV="1">
            <a:off x="3710160" y="5513400"/>
            <a:ext cx="1440" cy="200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3444840" y="571356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3520080" y="5729400"/>
            <a:ext cx="378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FT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3442320" y="595008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3727440" y="59500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3438360" y="59356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719520" y="5935680"/>
            <a:ext cx="144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3703680" y="5599080"/>
            <a:ext cx="652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>
            <a:off x="4355640" y="5599080"/>
            <a:ext cx="1800" cy="11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3978360" y="5010120"/>
            <a:ext cx="30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조정횟수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4094280" y="571356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4169160" y="5729400"/>
            <a:ext cx="418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O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4092120" y="595008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4376880" y="59500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4087800" y="59356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4368960" y="5935680"/>
            <a:ext cx="144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1881360" y="270828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1958040" y="272412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R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78480" y="294480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2163600" y="29448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74880" y="29304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81360" y="227016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936800" y="2286000"/>
            <a:ext cx="439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1879200" y="250668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079360" y="2506680"/>
            <a:ext cx="4669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9999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1874880" y="24922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155680" y="24922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1619280" y="2522160"/>
            <a:ext cx="306360" cy="10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명세서 일련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3210120" y="3050640"/>
            <a:ext cx="30636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모호성분리자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 flipV="1">
            <a:off x="2133720" y="20664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343240" y="2495520"/>
            <a:ext cx="571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 flipV="1">
            <a:off x="2924280" y="2485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3438360" y="2273400"/>
            <a:ext cx="52092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3503880" y="2289240"/>
            <a:ext cx="3726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IM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3435840" y="25099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3720960" y="25099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3432240" y="24955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3713040" y="24955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 flipV="1">
            <a:off x="3711600" y="20570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3565440" y="2707920"/>
            <a:ext cx="30636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모호성분리자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151000" y="29289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1308240" y="20685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1009800" y="2292480"/>
            <a:ext cx="520560" cy="291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1071720" y="2308320"/>
            <a:ext cx="420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1032480" y="227340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5384880" y="229536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5450400" y="2311560"/>
            <a:ext cx="378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FT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5382720" y="253224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5667480" y="25322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5378400" y="25178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5659560" y="25178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5529240" y="2771640"/>
            <a:ext cx="30636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5500800" y="2768040"/>
            <a:ext cx="306360" cy="50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참조란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 flipV="1">
            <a:off x="5651640" y="20602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1298520" y="2060640"/>
            <a:ext cx="4345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3438360" y="510840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3515760" y="5124600"/>
            <a:ext cx="3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QT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3435840" y="534528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3718080" y="53560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3432240" y="533088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3713040" y="53308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3438360" y="467028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3484440" y="4686480"/>
            <a:ext cx="439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1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3454920" y="490680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3708360" y="49006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3432240" y="489276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3713040" y="48927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28T08:21:48Z</dcterms:created>
  <dc:creator>(주)KT인포텍</dc:creator>
  <dc:description/>
  <cp:keywords/>
  <dc:language>en-US</dc:language>
  <cp:lastModifiedBy>김진성</cp:lastModifiedBy>
  <cp:lastPrinted>2001-07-05T00:19:08Z</cp:lastPrinted>
  <dcterms:modified xsi:type="dcterms:W3CDTF">2010-05-20T00:30:06Z</dcterms:modified>
  <cp:revision>189</cp:revision>
  <dc:subject/>
  <dc:title>슬라이드 제목 없음</dc:title>
</cp:coreProperties>
</file>