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1B8-F375-48E9-B3DB-CD6BA2FC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884-E1C6-456B-A3EF-9CDD5DF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0B2-DA50-4728-9588-AA7C1A86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739-8562-44E9-BC0C-E70115DD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FFF-38E4-462B-B25E-7C3BCDE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2F5-B8DD-4D33-97D5-583C7599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518-A84B-4B87-A293-AE4395F0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433-2183-4EE2-8426-F4B56C66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52E-6471-443F-A563-F5DC06E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524-3266-49A7-ABC5-3EADDEC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E22-253C-4CB5-BB51-8FDE6D5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C38-C615-4ECF-AD8D-B064CEF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C19A17-BD80-46DC-ADF6-B423C10B7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4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1447920"/>
            <a:ext cx="738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664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2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516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89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4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616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59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7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980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717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61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24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148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36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716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576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73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148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896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6316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500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736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1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5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3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5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7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1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88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71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05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56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69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3167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07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7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95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960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616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05160"/>
            <a:ext cx="26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49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508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3400" y="372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8520" y="372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9800" y="3714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2680" y="371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33163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112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6360" y="387792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1680" y="16686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16844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032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27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6000" y="2192400"/>
            <a:ext cx="4280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심사결과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820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5680" y="3521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67680" y="35370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4320" y="35020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3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840" y="257040"/>
            <a:ext cx="473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7196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3497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2840" y="3513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5160" y="373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9560" y="373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0840" y="3719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81640" y="37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1680" y="3973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8920" y="33051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4862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4240" y="3502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5480" y="3722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0600" y="3722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1880" y="3708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2680" y="37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9625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124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476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87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38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512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41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66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8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4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417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544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100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68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848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360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9452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7568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4536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515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0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2120" y="3960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90720" y="3976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160" y="420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77040" y="419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418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2120" y="3522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3538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49680" y="3759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9120" y="375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745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6160" y="3745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1480" y="42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41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99480" y="45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54200" y="45705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97320" y="4791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82080" y="47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93000" y="47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66240" y="47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38560" y="37900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31240" y="4989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12120" y="33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04200" y="4402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456264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51480" y="47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3588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46800" y="4768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2004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0666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006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14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5292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2460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976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22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720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8120" y="38419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5000" y="3618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880" y="3633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3200" y="38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27600" y="38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3852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9680" y="38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6880" y="23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56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3760" y="2579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0760" y="2544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1560" y="2347920"/>
            <a:ext cx="773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34960" y="295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2000" y="2973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32440" y="31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4680" y="320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8840" y="317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09640" y="31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4960" y="251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856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2864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8840" y="27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964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90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8200" y="3632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648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304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625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4512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69000" y="3178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4040" y="319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7200" y="341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8440" y="34146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62520" y="34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451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548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3600" y="4741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7260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59520" y="49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6900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5160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5480" y="428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4303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600" y="452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4840" y="452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69000" y="45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51600" y="451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46920" y="40622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924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4760" y="5410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672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184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76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392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4055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468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3352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4960" y="3598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01560" y="3614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2440" y="3835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17560" y="3835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28840" y="3821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09640" y="38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38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2940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100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98960" y="3844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64360" y="4665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00" y="28094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64320" y="3945240"/>
            <a:ext cx="42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15200" y="4133880"/>
            <a:ext cx="18882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구분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유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0520" y="2232000"/>
            <a:ext cx="39567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9880" y="3940920"/>
            <a:ext cx="671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직접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68640" y="30891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704960" y="2352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7560" y="3476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46920" y="516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6920" y="5272200"/>
            <a:ext cx="19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87840" y="3236760"/>
          <a:ext cx="150840" cy="2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7840" y="323676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56320" y="3921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30480" y="36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6360" y="3635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79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13440" y="3855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051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10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102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07600" y="23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96120" y="25718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58120" y="2587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4760" y="2552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164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77520" y="3645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948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424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632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3400" y="4137120"/>
            <a:ext cx="4280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152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364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0936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65680" y="3865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504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620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73080" y="400680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52360" y="17683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936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523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4860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82160" y="17683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724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248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38680" y="3086280"/>
            <a:ext cx="34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84640" y="23162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972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55960" y="27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87200" y="29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232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8360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64400" y="29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1480" y="32338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640640" y="23479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20360" y="26683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2612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819680" y="323064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9680" y="3230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948200" y="323064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48200" y="3230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900520" y="2381400"/>
            <a:ext cx="5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5012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640" y="54100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47960" y="563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3272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4364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2480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7400" y="45896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197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912080" y="600408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2080" y="6004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8001000" y="59720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5160" y="539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51040" y="54133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2280" y="563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67760" y="563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78680" y="561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59480" y="561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1080" y="4294440"/>
            <a:ext cx="67140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13720" y="539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79600" y="5408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11200" y="5629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9632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07240" y="561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88400" y="561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88440" y="2823840"/>
            <a:ext cx="671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53360" y="52610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833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84480" y="5353200"/>
            <a:ext cx="914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31720" y="53006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607000" y="578628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7000" y="578628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122800" y="5794200"/>
          <a:ext cx="15084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22800" y="579420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360" y="404640"/>
            <a:ext cx="8445600" cy="619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360" y="14684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20019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31035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4170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5313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736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6840" y="18446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5876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1988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1628640"/>
            <a:ext cx="702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38320" y="5493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848640" y="1628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9560" y="26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36240" y="2616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7040" y="28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421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282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3424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9560" y="2162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15000" y="2178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7760" y="2398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50000" y="2398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3080" y="23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42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1000" y="3048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0360" y="4486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2632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956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6940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97480" y="3858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97480" y="2414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48480" y="51015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78120" y="50252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7640" y="513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1640" y="4695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16080" y="4711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49120" y="493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34240" y="4932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45160" y="491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18400" y="491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180200" y="470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53640" y="4718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96760" y="493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62800" y="493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74080" y="492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46960" y="492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90040" y="470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77520" y="4721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87880" y="4941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2280" y="494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83560" y="492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56440" y="492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61000" y="382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38760" y="3844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58480" y="4065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4880" y="4051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35680" y="4051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61000" y="3390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16440" y="340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8480" y="362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59000" y="36273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4880" y="3613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35680" y="361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31000" y="42670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0584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11320" y="1879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0296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8808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9936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7224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7548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659640" y="1933560"/>
          <a:ext cx="164880" cy="2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933560"/>
                    <a:ext cx="16488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8088480" y="6318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8480" y="6318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8177040" y="6286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25360" y="220320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873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68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87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198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95280" y="98100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929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024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643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254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9440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60640" y="1879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9188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7700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8792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908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86440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15080" y="21967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0880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18640" y="1844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8020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4132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0376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69280" y="2989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564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8636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9728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6404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83120" y="28242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9760" y="33350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83120" y="273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05200" y="2295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2240" y="2311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0268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84920" y="254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99080" y="2517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7988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05200" y="1857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98800" y="1873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03400" y="2093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44960" y="2093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99080" y="20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79880" y="20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8320" y="198396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00544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80200" y="299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46080" y="3006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77320" y="322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2440" y="322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73720" y="321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54520" y="321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75240" y="3471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283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12800" y="18986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84560" y="163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2309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8120" y="2325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78560" y="2546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63680" y="254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74960" y="2532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55760" y="253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871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74680" y="188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78560" y="210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49640" y="21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74960" y="209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55760" y="209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612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52720" y="304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8324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68360" y="326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7964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60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46520" y="288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6716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32680" y="304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7868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02240" y="3267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6068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27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43160" y="3025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9040" y="3041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40640" y="3262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25760" y="326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37040" y="3247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17840" y="32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03440" y="2873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68360" y="2874960"/>
            <a:ext cx="11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51080" y="2743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76800" y="189360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52960" y="203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18840" y="2054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50080" y="227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35200" y="227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46480" y="226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27280" y="226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7320" y="25146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503520" y="16282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65920" y="24141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40320" y="3233520"/>
            <a:ext cx="42804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61920" y="2855160"/>
            <a:ext cx="549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34360" y="3336120"/>
            <a:ext cx="1888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조정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의료급여비용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2747880" y="4775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7880" y="4775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7360" y="404640"/>
            <a:ext cx="8445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8736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96840" y="120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58760" y="1544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19880" y="118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990720"/>
            <a:ext cx="62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38320" y="48564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32200" y="469584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32200" y="4970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858000" y="9903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7864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55680" y="1920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7612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6124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7216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332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78640" y="146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34080" y="1482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76480" y="1703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65920" y="170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72160" y="168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3320" y="168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80080" y="25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72600" y="2593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78280" y="281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62680" y="28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73960" y="280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46840" y="280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0080" y="23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64320" y="990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04040" y="143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9920" y="1454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01520" y="167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86640" y="167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297560" y="166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8720" y="166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80200" y="2017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34040" y="99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73760" y="144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39640" y="1457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71240" y="167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56360" y="167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67280" y="166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8440" y="166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12000" y="20095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87360" y="157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96840" y="17953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58760" y="18111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1988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84120" y="1579680"/>
            <a:ext cx="400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52560" y="33148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29960" y="333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50040" y="3551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32280" y="356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6440" y="353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27240" y="35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52560" y="287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8640" y="28926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69120" y="311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3960" y="3112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46440" y="3098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27240" y="309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27240" y="37530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82920" y="38113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6372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38960" y="3987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61200" y="4208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63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757600" y="419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38400" y="419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3043080" y="4413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92520" y="505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6992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900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71880" y="530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86040" y="528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672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92520" y="461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38600" y="46353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08720" y="48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2240" y="48560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86040" y="484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67200" y="48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46200" y="5103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205000" y="156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1304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8972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1340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95640" y="27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0656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90600" y="27590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13040" y="2098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68480" y="21146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14120" y="2335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135160" y="2335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6560" y="2320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90600" y="232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54200" y="23508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81240" y="3321000"/>
            <a:ext cx="10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76560" y="178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42080" y="180180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74040" y="202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9160" y="202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70080" y="200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1240" y="200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4980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79800" y="2914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45680" y="2930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1680" y="315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62400" y="3151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73680" y="3137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40080" y="31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278748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54440" y="2932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0320" y="2948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52640" y="316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37040" y="316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3154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29120" y="315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15080" y="277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67080" y="268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86280" y="2236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63680" y="2252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83760" y="2473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5640" y="248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79800" y="2459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960" y="2459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8628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79880" y="1814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8412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2604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7980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096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28616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4840" y="1753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54400" y="3212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10120" y="180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75640" y="1817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08320" y="2038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92720" y="203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03640" y="202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84800" y="20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54480" y="22780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26040" y="22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276880" y="156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32200" y="483084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3220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7080" y="5729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960720" y="546732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695760" y="5667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71000" y="5683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93240" y="590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78360" y="590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689280" y="588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70440" y="5889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54600" y="5553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606920" y="555300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344840" y="5667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20080" y="5683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43040" y="5904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27440" y="590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38720" y="588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19520" y="58896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89280" y="5062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66320" y="5078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86760" y="5299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8640" y="531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83160" y="528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3960" y="528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89280" y="4624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35360" y="4640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05840" y="486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59280" y="48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83160" y="4846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3960" y="484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29280" y="4964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50655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21:04Z</cp:lastPrinted>
  <dcterms:modified xsi:type="dcterms:W3CDTF">2010-05-20T00:31:20Z</dcterms:modified>
  <cp:revision>176</cp:revision>
  <dc:subject/>
  <dc:title>슬라이드 제목 없음</dc:title>
</cp:coreProperties>
</file>