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9D0-C83F-44CC-A49F-14476F25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0CA-BC9B-42E5-BBEE-78EE6CDD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89A1-6434-45B0-9910-AFD57CEF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EBBB-7E95-4282-88DF-A717282D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47BC-D0B1-4BDB-B3EF-0E39751B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070E-A777-4AFE-A3CB-2BFB0352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E9C0-C40B-4F24-AFA8-088EB85B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B17-6AF0-4D54-88FF-03ABA3BE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44AD-5B45-4D27-B226-C2723A3D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F78B-EA15-47CE-BA01-1A5C01D1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9F5A-5300-4AF5-91BE-044A09D4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2820-6CED-4D4E-9773-7E403568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7797EAB-1D92-45C9-8DE6-0A79CA9CBD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00040"/>
            <a:ext cx="8445600" cy="609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6922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43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588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879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879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320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19160" y="1865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4254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554976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87360" y="140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5920" y="1398600"/>
            <a:ext cx="718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5760" y="27068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9280" y="27226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3240" y="2943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294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29289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92520" y="292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62200" y="1895040"/>
            <a:ext cx="306360" cy="19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요양급여비용 정산심사내역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70000" y="1830600"/>
            <a:ext cx="306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85920" y="1865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5640" y="2700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18520" y="27162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23120" y="2936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8240" y="2936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922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2400" y="292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105000" y="14076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686040" y="14076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11480" y="2712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7720" y="2728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09680" y="2949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94080" y="2949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05360" y="2935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86160" y="2935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262400" y="1420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86320" y="2627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72360" y="264312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82360" y="2868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30960" y="2863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80200" y="2849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2560" y="28400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86320" y="21798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51480" y="2195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83800" y="241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98000" y="24163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80200" y="2401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2560" y="240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649840" y="14076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86240" y="3236760"/>
            <a:ext cx="3063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56200" y="3189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480" y="1643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99200" y="16588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41960" y="1879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27080" y="1879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38360" y="1865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11240" y="1865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14480" y="140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322280" y="24138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31496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320" y="9507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505240" y="14076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6800" y="27036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79880" y="27194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3920" y="2940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89040" y="2940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0320" y="2925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73200" y="292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22720" y="30999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65680" y="287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99200" y="3838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64720" y="38545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97400" y="4075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81800" y="407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9000" y="4060800"/>
            <a:ext cx="67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73880" y="406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43920" y="452772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2560" y="3240000"/>
            <a:ext cx="108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61120" y="3468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44280" y="3484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58240" y="3705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96200" y="370512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54640" y="3691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27520" y="3691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67400" y="4975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16000" y="4991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63440" y="5216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02320" y="5211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61280" y="5197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67400" y="45277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32560" y="4543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4960" y="4764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4400" y="4764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61280" y="4749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51800" y="47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46760" y="5221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29480" y="51847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05680" y="5931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0400" y="594684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03880" y="616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88280" y="616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43680" y="6153120"/>
            <a:ext cx="68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72440" y="6153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22480" y="309024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84840" y="3835080"/>
            <a:ext cx="103644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종별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차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63120" y="583164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13640" y="5856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5320" y="5937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23920" y="59529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90440" y="6178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10240" y="617364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69200" y="6159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75320" y="5489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40480" y="5505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2800" y="572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24800" y="572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69200" y="5711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30920" y="571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54680" y="618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37400" y="616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89920" y="16207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51920" y="16365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98560" y="16016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466120" y="14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3640" y="2797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8900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78720" y="38397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737400" y="4212720"/>
            <a:ext cx="0" cy="31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62720" y="3838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58840" y="385452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60200" y="4075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45320" y="407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56240" y="406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7400" y="406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62720" y="34005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56320" y="3416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60200" y="3637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99600" y="36370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56240" y="3622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37400" y="362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18320" y="3244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50520" y="38908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연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51800" y="4400640"/>
            <a:ext cx="170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10040" y="139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9760" y="1851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5640" y="18669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7240" y="2087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32360" y="2087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3280" y="2073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24440" y="207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59200" y="227304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82000" y="462456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44000" y="464040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90640" y="4605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458200" y="440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19760" y="4782960"/>
            <a:ext cx="671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01600" y="260280"/>
            <a:ext cx="8712360" cy="633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4080" y="40464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9280" y="13190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9280" y="2427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9280" y="3570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9280" y="4713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19000" y="83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7800" y="106668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9800" y="108252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440" y="10476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22240" y="839880"/>
            <a:ext cx="749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41720" y="4096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05280" y="3624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70800" y="3639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3480" y="3860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4520" y="3860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9160" y="3846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48280" y="3846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79960" y="3627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45840" y="36432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77440" y="3863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8000" y="38638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73480" y="3849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54640" y="38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97040" y="157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5200" y="179712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7200" y="181296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3840" y="17780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000" y="1571760"/>
            <a:ext cx="755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934400" y="10652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67600" y="10810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43040" y="10461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10600" y="844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89080" y="2967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66120" y="29829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86560" y="320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68440" y="321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82600" y="318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63760" y="318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89080" y="2519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82680" y="2535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86560" y="2755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82400" y="274176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82600" y="274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63760" y="274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71440" y="1628640"/>
            <a:ext cx="3348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요양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약제상한차액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지원금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급여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수장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71000" y="3855240"/>
            <a:ext cx="1158120" cy="24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 가산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3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이상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2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 가산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86280" y="401220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59080" y="3390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6208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89080" y="3619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55680" y="3635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86560" y="3855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71680" y="38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82600" y="384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63760" y="38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92440" y="3635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57960" y="3651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89560" y="3871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35440" y="38718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85960" y="3857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66760" y="3857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9200" y="2688480"/>
            <a:ext cx="54972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가입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13560" y="3804840"/>
            <a:ext cx="1158120" cy="25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 공상등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액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률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환수환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440" y="3686760"/>
            <a:ext cx="54972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02160" y="4064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79920" y="40798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99640" y="4300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84760" y="4300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96040" y="4286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76840" y="4286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02160" y="3616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95760" y="3632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00360" y="3852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92240" y="38527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96040" y="3838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76840" y="38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96160" y="5164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72840" y="51800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93280" y="5400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78400" y="5400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89680" y="5386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70480" y="538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08640" y="4726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02240" y="4741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06120" y="4962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48760" y="4962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02160" y="4948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83320" y="494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78640" y="4500720"/>
            <a:ext cx="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68920" y="515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34800" y="51753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66400" y="539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1520" y="5396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62800" y="5381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43600" y="538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22960" y="515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88840" y="51753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21160" y="5396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05560" y="5396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16840" y="5381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397640" y="538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54480" y="42206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39640" y="3666960"/>
            <a:ext cx="79308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한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약제상한차액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약제상한차액인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17920" y="455616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21680" y="5563800"/>
            <a:ext cx="671400" cy="10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관련근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상세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49400" y="5753160"/>
            <a:ext cx="2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7760" y="3632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3280" y="36482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85240" y="3868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46960" y="38685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3854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62440" y="3854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28960" y="3483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56080" y="3470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43600" y="34750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659560" y="3479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52840" y="3483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82840" y="3638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48360" y="36543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81040" y="3875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65440" y="38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76360" y="3860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57520" y="3860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77520" y="3879000"/>
            <a:ext cx="54972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정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59080" y="3479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89440" y="3638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55320" y="36543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87280" y="3875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1680" y="38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82960" y="3860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63760" y="3860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59640" y="4040640"/>
            <a:ext cx="42804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병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81480" y="2516040"/>
            <a:ext cx="3063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459880" y="2052720"/>
            <a:ext cx="347400" cy="323280"/>
            <a:chOff x="2459880" y="2052720"/>
            <a:chExt cx="347400" cy="323280"/>
          </a:xfrm>
        </p:grpSpPr>
        <p:sp>
          <p:nvSpPr>
            <p:cNvPr id="332" name=""/>
            <p:cNvSpPr/>
            <p:nvPr/>
          </p:nvSpPr>
          <p:spPr>
            <a:xfrm>
              <a:off x="2459880" y="2058840"/>
              <a:ext cx="2138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64280" y="2052720"/>
              <a:ext cx="24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I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4" name=""/>
            <p:cNvGraphicFramePr/>
            <p:nvPr/>
          </p:nvGraphicFramePr>
          <p:xfrm>
            <a:off x="2520720" y="2170080"/>
            <a:ext cx="150480" cy="2059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20720" y="2170080"/>
                      <a:ext cx="150480" cy="20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6" name=""/>
            <p:cNvGraphicFramePr/>
            <p:nvPr/>
          </p:nvGraphicFramePr>
          <p:xfrm>
            <a:off x="2639880" y="2170080"/>
            <a:ext cx="150120" cy="2059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3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39880" y="2170080"/>
                      <a:ext cx="150120" cy="20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38" name=""/>
          <p:cNvGraphicFramePr/>
          <p:nvPr/>
        </p:nvGraphicFramePr>
        <p:xfrm>
          <a:off x="6516720" y="6230880"/>
          <a:ext cx="150840" cy="206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6720" y="62308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8405640" y="635940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82040" y="5162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747920" y="517860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79160" y="5398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64640" y="5398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75560" y="5384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956720" y="5384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94720" y="5648040"/>
            <a:ext cx="30636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4000" y="5167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09880" y="51832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241480" y="5403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526600" y="5403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237520" y="5389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18680" y="538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125920" y="2679480"/>
            <a:ext cx="54972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인정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05400" y="5162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71280" y="517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02880" y="5398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688000" y="5398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98920" y="5384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80080" y="5384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04360" y="5003280"/>
            <a:ext cx="42804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65200" y="3473280"/>
            <a:ext cx="420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959600" y="179712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093160" y="181296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968240" y="17780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335800" y="1576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476360" y="1581120"/>
            <a:ext cx="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10080" y="538812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8305920" y="6362640"/>
          <a:ext cx="150840" cy="2062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05920" y="636264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6891480" y="6164280"/>
          <a:ext cx="150840" cy="2062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91480" y="61642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2180160" y="4330800"/>
            <a:ext cx="367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D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87600" y="1852560"/>
            <a:ext cx="31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7360" y="539640"/>
            <a:ext cx="8445600" cy="598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96840" y="16732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58760" y="16891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1988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699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42080" y="27306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19120" y="2746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39560" y="2967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24680" y="2967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35600" y="2952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016760" y="295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42080" y="2282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97520" y="229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740280" y="2519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940440" y="25192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35600" y="2505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1676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15320" y="316872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029360" y="460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2300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25192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51560" y="39794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53360" y="243648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31000" y="522216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탁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69280" y="5054040"/>
            <a:ext cx="3063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030160" y="52531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리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34160" y="481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98600" y="4832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731640" y="505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16760" y="505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27680" y="503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000920" y="503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362720" y="48229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436520" y="48387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353720" y="5059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45320" y="5059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356600" y="5045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3000" y="504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972560" y="4826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060400" y="4842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970400" y="5062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255160" y="5062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966080" y="5048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38960" y="504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43880" y="3959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21280" y="39751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41000" y="4195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026120" y="4195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37400" y="4181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18200" y="4181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43880" y="3511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799320" y="35272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41000" y="374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941520" y="37479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737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0182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012080" y="43876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62400" y="2305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228280" y="23209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74280" y="2541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45000" y="2541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56280" y="2527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423040" y="2527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297400" y="2473200"/>
            <a:ext cx="3063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과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2771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996320" y="16635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058240" y="16794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1936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336760" y="23162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701352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11840" y="2303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877720" y="23194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809320" y="2540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94440" y="2540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805360" y="2525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86520" y="2525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924520" y="2454120"/>
            <a:ext cx="3063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과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951680" y="228456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085240" y="230040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960320" y="2265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240760" y="206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008160" y="205560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705040" y="27367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782080" y="2752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02520" y="2973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87640" y="2973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698920" y="295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79720" y="295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705040" y="2289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798640" y="2305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702520" y="2525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973240" y="252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98920" y="2511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979720" y="251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09720" y="3448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76320" y="3463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07200" y="3684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992320" y="3684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03600" y="3670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984400" y="367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70120" y="329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290760" y="3448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6640" y="34639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02640" y="3684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26200" y="3684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84640" y="3670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51400" y="367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67120" y="34434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33000" y="34592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64600" y="3679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49720" y="3679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60640" y="3665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41800" y="366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27400" y="32907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92320" y="3292560"/>
            <a:ext cx="112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00800" y="3618720"/>
            <a:ext cx="42804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 부담금 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67920" y="26179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75040" y="316080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60160" y="3683520"/>
            <a:ext cx="1888200" cy="20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과약제상한차액인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또는조정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금액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요양급여비용총액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약제상한차액총액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 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의료비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지원금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69080" y="2162520"/>
            <a:ext cx="42804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소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262160" y="207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990720" y="23097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52640" y="23256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13400" y="22906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258920" y="2060640"/>
            <a:ext cx="699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16560" y="2292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79560" y="2308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13680" y="2529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95920" y="2529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1008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88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478296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10160" y="26697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429160" y="206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608184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68600" y="2295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31240" y="23115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65720" y="2532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47960" y="2532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662120" y="2517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940040" y="2517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93500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762200" y="26730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43720" y="630864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8134200" y="5757840"/>
          <a:ext cx="15084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34200" y="575784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8244000" y="6318360"/>
          <a:ext cx="15084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44000" y="631836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9968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0587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0198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295280" y="1447920"/>
            <a:ext cx="515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65632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376960" y="2371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54000" y="23875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74440" y="2608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659560" y="2608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370480" y="2593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651640" y="2593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76960" y="1933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32400" y="1949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374800" y="2170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664240" y="217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70480" y="2155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651640" y="215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78400" y="3044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70560" y="306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376600" y="3281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61000" y="3281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372280" y="3267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645160" y="326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4840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5156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19128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257160" y="19209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8876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47388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18480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6596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978520" y="2484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3876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578480" y="1909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64436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57560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86108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213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85316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8792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998800" y="3405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64680" y="34210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010320" y="3641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81400" y="3641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992320" y="3627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59080" y="362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86080" y="3278160"/>
            <a:ext cx="65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73440" y="3422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38960" y="34383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670920" y="3659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56040" y="3659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66960" y="3645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948120" y="3645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933720" y="3270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709440" y="3755520"/>
            <a:ext cx="549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차등지수정산심사결정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찰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료차감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찰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978280" y="3790080"/>
            <a:ext cx="6714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약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차등지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7672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05280" y="2736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082680" y="27525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02400" y="2973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284640" y="2984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98800" y="2959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79600" y="295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05280" y="2289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98880" y="23050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03120" y="2525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82840" y="252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998800" y="2511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79600" y="251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330516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906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000080" y="22734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062000" y="22892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23120" y="22543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32600" y="2154600"/>
            <a:ext cx="42804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차등수가관련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293840" y="2060640"/>
            <a:ext cx="20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781280" y="2282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847160" y="22986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78760" y="2519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63880" y="2519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774800" y="2505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05596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205416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08360" y="27172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cp:keywords/>
  <dc:language>en-US</dc:language>
  <cp:lastModifiedBy>김진성</cp:lastModifiedBy>
  <cp:lastPrinted>2001-07-05T00:19:08Z</cp:lastPrinted>
  <dcterms:modified xsi:type="dcterms:W3CDTF">2010-05-20T00:37:27Z</dcterms:modified>
  <cp:revision>260</cp:revision>
  <dc:subject/>
  <dc:title>슬라이드 제목 없음</dc:title>
</cp:coreProperties>
</file>