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D377-5C33-4E30-8D24-458F7EA4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2FDF-E483-4DC8-B2CE-9227609A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DDDA-76F0-4F32-A70E-0DE6DA5C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3C8A-D0FD-4F5C-8FBA-2A8293D9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192E-1DB0-4697-8EFA-510D3939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8A10-265E-4FE0-BDA7-48158463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DC6E-7F83-42A8-9BA7-C9A7DE65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B672-DA20-44DD-8365-0636F9C5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BDD8-51A7-4C69-B86E-A498063C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EA2E-0C4E-4539-A93C-2AEE2C37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BBB2-F54F-44FB-BD58-95DDAA9E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0480-AAC2-48A6-8614-1C1AD9FC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76DDF37-ED00-44F2-B3C6-CC9F6BD019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605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A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191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5920" y="1438200"/>
            <a:ext cx="718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5760" y="2746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9280" y="27622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3240" y="298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29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2968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92520" y="29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62200" y="1935000"/>
            <a:ext cx="306360" cy="19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의료급여비용 정산심사내역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70000" y="1870200"/>
            <a:ext cx="306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859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2564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18520" y="2755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2312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824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924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1050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6860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11480" y="27525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7720" y="27687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09680" y="29894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94080" y="2989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05360" y="2975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86160" y="297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262400" y="14605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86240" y="3276720"/>
            <a:ext cx="3063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56200" y="32288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4448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9920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4196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270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383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1124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144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322280" y="24534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31892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052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680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79880" y="2759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392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8904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032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7320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22720" y="31395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989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3640" y="28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22860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41560" y="3102480"/>
            <a:ext cx="3063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86320" y="2627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2080" y="264312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82360" y="2868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30960" y="2863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80200" y="2849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2560" y="28400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86320" y="21798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51480" y="2195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83800" y="241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98000" y="24163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80200" y="2401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2560" y="240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649840" y="143784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65680" y="2873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99200" y="3838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164720" y="38545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97400" y="4075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81800" y="407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9000" y="4060800"/>
            <a:ext cx="67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73880" y="406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43920" y="452772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2560" y="3240000"/>
            <a:ext cx="108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1120" y="34686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44280" y="3484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58240" y="3705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96200" y="370512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54640" y="3691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27520" y="3691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67400" y="4975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16000" y="4991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63440" y="5216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02320" y="5211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61280" y="5197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67400" y="45277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32560" y="4543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74960" y="4764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64400" y="4764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61280" y="4749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51800" y="474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46760" y="5221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29480" y="51847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05680" y="5931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0400" y="594684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03880" y="616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88280" y="616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43680" y="6153120"/>
            <a:ext cx="68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72440" y="6153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06520" y="3835080"/>
            <a:ext cx="9147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차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63120" y="583164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13640" y="5856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75320" y="59371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23920" y="59529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90440" y="6178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10240" y="617364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69200" y="6159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75320" y="5489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40480" y="5505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72800" y="5726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24800" y="572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69200" y="5711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30920" y="571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54680" y="618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37400" y="616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99280" y="165888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261280" y="167472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07920" y="16398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475840" y="143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78720" y="38397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737400" y="4212720"/>
            <a:ext cx="0" cy="31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62720" y="3838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8840" y="385452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60200" y="4075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45320" y="407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56240" y="406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37400" y="406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62720" y="34005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6320" y="34164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60200" y="3637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99600" y="36370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56240" y="3622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37400" y="362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18320" y="3244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50520" y="389088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연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51800" y="4400640"/>
            <a:ext cx="170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0040" y="1450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49760" y="1908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15640" y="19242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7240" y="2144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32360" y="2144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3280" y="2130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24440" y="2130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59200" y="233028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082000" y="462456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44000" y="464040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90640" y="4605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458200" y="440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19760" y="4782960"/>
            <a:ext cx="6714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업무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업무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01600" y="260280"/>
            <a:ext cx="8712360" cy="633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4080" y="40464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9280" y="131904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9280" y="2427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9280" y="3570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9280" y="4713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19000" y="83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7800" y="106668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9800" y="108252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440" y="10476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2240" y="839880"/>
            <a:ext cx="749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41720" y="4096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A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5280" y="36241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70800" y="3639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03480" y="3860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24520" y="3860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99160" y="3846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48280" y="3846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79960" y="3627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45840" y="36432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77440" y="3863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28000" y="38638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73480" y="3849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54640" y="384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97040" y="1766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5200" y="19922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7200" y="20080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3840" y="19731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92000" y="1762200"/>
            <a:ext cx="755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45560" y="106524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78760" y="10810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54200" y="10461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21760" y="844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89080" y="2967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66120" y="29829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86560" y="3203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68440" y="321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82600" y="3189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63760" y="318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89080" y="2519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82680" y="2535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86560" y="2755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82400" y="274176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82600" y="2741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63760" y="274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47080" y="1733400"/>
            <a:ext cx="286164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의료급여비용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약제상한차액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기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대불금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급여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수장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86280" y="401220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59080" y="3390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62080" y="34765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89080" y="3619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55680" y="3635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86560" y="3855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71680" y="3855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82600" y="384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63760" y="384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92440" y="3635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57960" y="3651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89560" y="3871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43360" y="38718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85960" y="3857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66760" y="3857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54520" y="3786480"/>
            <a:ext cx="14014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액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률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 본인부담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 공상등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환수환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시설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형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02160" y="4064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79920" y="407988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99640" y="4300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84760" y="4300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96040" y="4286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76840" y="4286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02160" y="3616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95760" y="3632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00360" y="3852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92240" y="38527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96040" y="3838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76840" y="38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96160" y="5164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72840" y="51800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93280" y="5400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278400" y="5400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89680" y="5386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70480" y="538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08640" y="4726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502240" y="4741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06120" y="4962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58120" y="4962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02160" y="4948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83320" y="494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78640" y="4500720"/>
            <a:ext cx="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68920" y="51595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34800" y="51753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66400" y="5396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1520" y="5396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62800" y="5381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43600" y="538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22960" y="51595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188840" y="51753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21160" y="5396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405560" y="5396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16840" y="5381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97640" y="538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54480" y="42206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117920" y="455616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543360" y="5627880"/>
            <a:ext cx="54972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관련근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79360" y="5753160"/>
            <a:ext cx="24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87760" y="3632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53280" y="36482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5240" y="3868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70720" y="38685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3854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62440" y="3854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28960" y="3483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57880" y="3470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43600" y="34750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659560" y="3479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52840" y="3483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82840" y="3638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48360" y="36543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81040" y="3875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5440" y="3875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76360" y="3860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57520" y="3860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59080" y="3479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89440" y="3638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55320" y="36543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87280" y="3875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71680" y="3875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82960" y="3860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63760" y="3860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291200" y="2360520"/>
            <a:ext cx="30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0200" y="2075040"/>
            <a:ext cx="30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670800" y="6207120"/>
          <a:ext cx="150840" cy="20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70800" y="620712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8317080" y="6372360"/>
          <a:ext cx="15048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7080" y="6372360"/>
                    <a:ext cx="15048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8405640" y="635940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82040" y="5162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747920" y="517860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79160" y="5398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964640" y="5398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75560" y="5384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5384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794720" y="5648040"/>
            <a:ext cx="30636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244000" y="5167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09880" y="51832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241480" y="5403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526600" y="5403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237520" y="5389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518680" y="538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405400" y="5162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71280" y="5178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402880" y="5398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88000" y="5398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98920" y="5384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680080" y="5384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04360" y="5003280"/>
            <a:ext cx="42804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55840" y="3473280"/>
            <a:ext cx="420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966080" y="197640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099280" y="199224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974720" y="19573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42280" y="175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1476360" y="1773360"/>
            <a:ext cx="0" cy="72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5388120"/>
            <a:ext cx="319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5440" y="2809440"/>
            <a:ext cx="5497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세대주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66200" y="3879000"/>
            <a:ext cx="79308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직접조재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입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2363760" y="4802040"/>
          <a:ext cx="150840" cy="2066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3760" y="4802040"/>
                    <a:ext cx="15084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5078520" y="2894040"/>
          <a:ext cx="150840" cy="2062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78520" y="289404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2509560" y="3879000"/>
            <a:ext cx="54972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 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정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45880" y="2195640"/>
            <a:ext cx="21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50280" y="2189160"/>
            <a:ext cx="2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014640" y="2306520"/>
          <a:ext cx="150840" cy="2066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14640" y="2306520"/>
                    <a:ext cx="15084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133800" y="2306520"/>
          <a:ext cx="150840" cy="2066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33800" y="2306520"/>
                    <a:ext cx="15084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6908760" y="6140520"/>
          <a:ext cx="150840" cy="20628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08760" y="614052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3020040" y="4056480"/>
            <a:ext cx="42804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상병분류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125920" y="2679480"/>
            <a:ext cx="54972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인정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11520" y="1932120"/>
            <a:ext cx="31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440" y="3686760"/>
            <a:ext cx="54972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10920" y="3666960"/>
            <a:ext cx="79308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상한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약제상한차액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약제상한차액인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87360" y="539640"/>
            <a:ext cx="8445600" cy="598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96840" y="167328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58760" y="16891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19880" y="16542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95280" y="1447920"/>
            <a:ext cx="699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A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2929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012160" y="166356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074080" y="167940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03520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481120" y="23083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959600" y="228456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093160" y="230040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968240" y="2265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248680" y="206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3152880" y="205560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49400" y="2728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926440" y="2744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46880" y="2965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32000" y="2965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843280" y="2951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295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49400" y="22813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943000" y="2297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46880" y="2517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17960" y="2517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843280" y="2503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124080" y="2503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5444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921040" y="3456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5192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37040" y="3676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4796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2912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714840" y="32907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43548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01000" y="3456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4700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670560" y="36766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2900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9576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019400" y="3435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085640" y="3451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16880" y="3672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02000" y="3672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013280" y="3657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294080" y="365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80040" y="3282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1200" y="3284640"/>
            <a:ext cx="116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067640" y="1841760"/>
            <a:ext cx="42804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건수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급권확인대상건수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30560" y="3152880"/>
            <a:ext cx="0" cy="28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54120" y="3707280"/>
            <a:ext cx="2009880" cy="20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과약제상한차액인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또는조정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금액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의료급여비용총액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약제상한차액총액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청구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기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부담금 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의료비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대불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40720" y="2154600"/>
            <a:ext cx="428040" cy="25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합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62160" y="207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90720" y="230976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52640" y="232560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013400" y="22906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58920" y="2060640"/>
            <a:ext cx="699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46840" y="27306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923880" y="2746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4320" y="2967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29440" y="2967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0360" y="2952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121520" y="295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46840" y="2282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02280" y="2298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5040" y="2519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68960" y="251928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40360" y="2505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21520" y="250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120080" y="316872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34120" y="4606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2812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35668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85120" y="39794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586560" y="253512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935760" y="5222160"/>
            <a:ext cx="306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탁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574040" y="5054040"/>
            <a:ext cx="30636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134920" y="52531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리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38920" y="481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903360" y="4832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36400" y="505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121520" y="505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32440" y="503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105680" y="503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467480" y="48229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541280" y="48387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458840" y="5059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750080" y="5059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61360" y="5045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728120" y="504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077320" y="4826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165160" y="48420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075160" y="5062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59920" y="5062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070840" y="5048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344080" y="504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48640" y="3959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926040" y="39751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45760" y="4195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30880" y="4195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42160" y="4181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122960" y="4181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48640" y="3511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904080" y="35272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45760" y="3747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046280" y="37479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4216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12296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115040" y="43876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267160" y="2305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3040" y="23209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279040" y="2541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49760" y="2541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261040" y="2527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527800" y="2527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02160" y="2473200"/>
            <a:ext cx="3063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과조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711828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16600" y="2303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982480" y="23194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914080" y="2540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199200" y="2540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910120" y="2525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91280" y="2525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29280" y="2454120"/>
            <a:ext cx="3063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과조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21320" y="2292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684320" y="2308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18800" y="2529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900680" y="2529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6148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892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488808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743360" y="26744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5533920" y="2069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6186600" y="206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6918480" y="2076480"/>
          <a:ext cx="150480" cy="20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18480" y="2076480"/>
                    <a:ext cx="15048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"/>
          <p:cNvSpPr/>
          <p:nvPr/>
        </p:nvSpPr>
        <p:spPr>
          <a:xfrm>
            <a:off x="1668600" y="2295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731240" y="23115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65720" y="2532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47960" y="2532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662120" y="2517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40040" y="2517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193500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762200" y="267300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4438800" y="5167440"/>
          <a:ext cx="15084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38800" y="516744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8272440" y="623736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8172360" y="6240600"/>
          <a:ext cx="150840" cy="206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72360" y="624060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"/>
          <p:cNvSpPr/>
          <p:nvPr/>
        </p:nvSpPr>
        <p:spPr>
          <a:xfrm>
            <a:off x="2843640" y="3621960"/>
            <a:ext cx="42804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 부담금 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996840" y="16635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58760" y="16794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1988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95280" y="1447920"/>
            <a:ext cx="478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A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29596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16600" y="2371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093640" y="23875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014080" y="2608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299200" y="2608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010120" y="2593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291280" y="2593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016600" y="1933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72040" y="19494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014440" y="2170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303880" y="217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10120" y="2155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91280" y="215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018040" y="3044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10200" y="3060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016240" y="3281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00640" y="3281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011560" y="3267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284800" y="326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28804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9120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830920" y="190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896800" y="19209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828400" y="2141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113520" y="21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24440" y="212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105600" y="21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618160" y="2484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478400" y="1452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18120" y="1909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284000" y="1925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215240" y="214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500720" y="214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211640" y="213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492800" y="213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327560" y="2331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2906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000080" y="22734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062000" y="22892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023120" y="22543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293840" y="2060640"/>
            <a:ext cx="148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81280" y="2282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47160" y="22986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778760" y="2519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063880" y="2519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774800" y="2505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055960" y="250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5416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908360" y="271728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475000" y="3405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40880" y="34210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486520" y="3641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757600" y="3641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68520" y="3627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735280" y="3627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62280" y="3278160"/>
            <a:ext cx="65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49640" y="3422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15160" y="34383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147120" y="3659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432240" y="3659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43160" y="3645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424320" y="3645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409920" y="3270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52560" y="317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481120" y="27367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558880" y="27525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478600" y="2973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60840" y="2984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475000" y="295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55800" y="2959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81120" y="2289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575080" y="23050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79320" y="2525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759040" y="2525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475000" y="2511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755800" y="2511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278136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cp:keywords/>
  <dc:language>en-US</dc:language>
  <cp:lastModifiedBy>김진성</cp:lastModifiedBy>
  <cp:lastPrinted>2001-07-05T00:19:08Z</cp:lastPrinted>
  <dcterms:modified xsi:type="dcterms:W3CDTF">2010-05-20T00:38:11Z</dcterms:modified>
  <cp:revision>237</cp:revision>
  <dc:subject/>
  <dc:title>슬라이드 제목 없음</dc:title>
</cp:coreProperties>
</file>