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8D2-474C-4133-BC1A-02762541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D35-B75F-4C7E-97F5-6FBB91A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A97-7AD7-4CC2-80F9-F41EED0A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14A-0C2C-4C7D-B58A-866305C0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726-5DFF-474B-95C0-02EB9882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533-506B-4E8B-A967-C6A3B0E6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8FC-6A60-4048-B5D4-5BEBF70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CAF-BC12-41CE-B287-F790321E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04A-6A6A-49CF-9180-337BE333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8AB-EF40-471A-BA5D-477742B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9AC-D792-4A8F-9082-2198128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761-FE3A-4E43-B284-9EC81FA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67D2BA-AA8E-430E-802D-1E0F148E64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14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4160" y="27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840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038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876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6040" y="1994760"/>
            <a:ext cx="306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약품 구입내역 목록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9440" y="3027960"/>
            <a:ext cx="42804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확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기관 기호 및 작성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38640" y="3074400"/>
            <a:ext cx="306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약품 구입내역 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76520" y="3107520"/>
            <a:ext cx="3063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년월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분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7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899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4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9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3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5132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66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4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2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38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38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815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3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4928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1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5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57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3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88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472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7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1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3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1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77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476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5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103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16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2400" y="31813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77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213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5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5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16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24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94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0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8000" y="42703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844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13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0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24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916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70720" y="4052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05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99160" y="4695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30960" y="545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6840" y="547380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9160" y="569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13560" y="569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68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5640" y="568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9040" y="2963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46440" y="2979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652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1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372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9040" y="2525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264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724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3760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74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3580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760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9040" y="420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4920" y="4221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442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4372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05640" y="31683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사승인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8656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1160" y="2975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612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463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572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384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37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573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124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3400" y="2757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72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384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305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3196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637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9640" y="42163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124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63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572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84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0222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품목구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69960" y="4529520"/>
            <a:ext cx="30636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제약회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입업소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98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572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732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224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45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33400" y="3571920"/>
            <a:ext cx="397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0984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43360" y="4631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가중평균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9720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62720" y="421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9468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98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9072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718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720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26440" y="4552200"/>
            <a:ext cx="7930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5920" y="4218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3320" y="4233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23400" y="445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4454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9800" y="4440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00600" y="44402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25920" y="3780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19520" y="379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23400" y="4016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4840" y="40165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9800" y="4002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00600" y="400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58440" y="3517560"/>
            <a:ext cx="4280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업소 명칭 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장 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63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30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62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46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57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8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21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6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9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03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95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909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1080" y="4612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최초구입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352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5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06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8152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764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5920" y="4952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1440" y="4968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2340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0852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9800" y="5175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60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89120" y="540252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계약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236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68240" y="4968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984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8496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7704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9000" y="540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4064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06160" y="4968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812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2324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416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532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57880" y="54208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8828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53800" y="4968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86120" y="5189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7088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180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6296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05640" y="4781520"/>
            <a:ext cx="26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62640" y="47815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0920" y="47815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67640" y="477216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2656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92080" y="4968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24400" y="5189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880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2008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088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477216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5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30160" y="5370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입찰구입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34440" y="5430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447920"/>
            <a:ext cx="364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3528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1160" y="1692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32400" y="191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1788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0996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84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775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21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67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78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14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54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8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45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6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51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43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8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62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6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372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43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35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372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86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34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66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512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433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955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2424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2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13960" y="2755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1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1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87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68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9940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4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89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73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762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486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89440" y="20170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62720" y="20318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cp:keywords/>
  <dc:language>en-US</dc:language>
  <cp:lastModifiedBy>김진성</cp:lastModifiedBy>
  <cp:lastPrinted>2001-07-05T00:03:42Z</cp:lastPrinted>
  <dcterms:modified xsi:type="dcterms:W3CDTF">2010-06-14T06:43:51Z</dcterms:modified>
  <cp:revision>52</cp:revision>
  <dc:subject/>
  <dc:title>슬라이드 제목 없음</dc:title>
</cp:coreProperties>
</file>