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611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AA7-522B-487A-999C-6E166DB3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FB5-8C4F-4DEC-8B26-FED122D5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C17-46AD-417F-89A5-02E154AF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D0A-85D4-4BFE-9941-5387D615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E5F-792A-455C-ADE7-A0E96217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EC3-2503-4278-AE6F-159F0871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351-A844-4F8B-A323-D3DBF3B4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346-F725-4B35-9104-CC8EF255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CC9-1B4C-4640-91A0-2F1AB209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AE7-C4D5-4DA1-B6EA-790ACFC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AAE-7BBA-4CF2-98F7-B04203B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B58-D1AB-46E5-9D20-AD6400CD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8E32EC-938F-422B-8482-03672B4C27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83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3348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58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509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84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30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860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772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70880" y="2762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592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7032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8124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4880" y="1827720"/>
            <a:ext cx="30636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비용 심사결과 통보서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총괄표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84240" y="188820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86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0928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35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986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9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82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95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348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68760" y="2759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464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660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136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6228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4344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196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9800" y="2759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6040" y="2774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476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324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4332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44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007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60840" y="2657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09440" y="26733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808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289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54720" y="287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968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0840" y="2219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2600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6840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3876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54720" y="244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0708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340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26240" y="146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1312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8752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4188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850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01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8104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42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75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1653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431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4472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780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422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73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824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4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2080" y="3176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54720" y="3938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31760" y="39546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52200" y="417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34080" y="418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48240" y="416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9400" y="416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54720" y="3500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48320" y="351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1360" y="3736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22920" y="37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48240" y="372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9400" y="372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4056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488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10760" y="2774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4308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2748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3876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956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95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78480" y="468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33200" y="47023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5120" y="4923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61080" y="4923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72000" y="4908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45240" y="490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02280" y="166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7360" y="1679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99760" y="190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4880" y="190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96160" y="1886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9040" y="18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52840" y="3129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74960" y="3203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64400" y="3281400"/>
            <a:ext cx="177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4120" y="266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2360" y="2678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09520" y="2903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0240" y="2898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9764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04120" y="2224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68920" y="2239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10960" y="2460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7080" y="245124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244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50000" y="244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348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0760" y="16588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32680" y="1674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3160" y="1639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40760" y="145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6440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04120" y="351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8840" y="3532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30040" y="3753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86720" y="3753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97640" y="3738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70520" y="373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64400" y="290052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75440" y="3510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30160" y="3525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01360" y="3746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58040" y="3746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68960" y="3732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42200" y="373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50000" y="350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24520" y="351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57200" y="373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04160" y="37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43880" y="372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16760" y="372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35720" y="32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00920" y="327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29400" y="4238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44160" y="3834360"/>
            <a:ext cx="42804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송 및 기재착오 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62480" y="39560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625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80120" y="267444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65920" y="3850560"/>
            <a:ext cx="306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0760" y="3497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02680" y="351324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73160" y="3478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10760" y="329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7400" y="19936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4479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59920" y="7333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8460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498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4272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47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32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43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166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19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766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536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741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592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05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13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766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702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748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484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705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513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9912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6640" y="34034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76640" y="378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3797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74840" y="401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59240" y="40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70520" y="4003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1320" y="40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98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4232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667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20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62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591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584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9000" y="27590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340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87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193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26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876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84440" y="3163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38120" y="3548160"/>
            <a:ext cx="102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09960" y="376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4320" y="3782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16800" y="4003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54760" y="4003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03480" y="3989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76360" y="398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0520" y="353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812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2440" y="377820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4440" y="379404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61080" y="37591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6680" y="4292640"/>
            <a:ext cx="140148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약제상한차액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반송 및 기재착오 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지급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164440" y="613728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4440" y="61372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8253360" y="61056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340000" y="524844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52484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cp:keywords/>
  <dc:language>en-US</dc:language>
  <cp:lastModifiedBy>김진성</cp:lastModifiedBy>
  <cp:lastPrinted>2001-07-05T00:22:49Z</cp:lastPrinted>
  <dcterms:modified xsi:type="dcterms:W3CDTF">2010-04-09T05:28:23Z</dcterms:modified>
  <cp:revision>80</cp:revision>
  <dc:subject/>
  <dc:title>슬라이드 제목 없음</dc:title>
</cp:coreProperties>
</file>